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9.png" ContentType="image/png"/>
  <Override PartName="/ppt/media/image17.wmf" ContentType="image/x-wmf"/>
  <Override PartName="/ppt/media/image12.wmf" ContentType="image/x-wmf"/>
  <Override PartName="/ppt/media/image8.png" ContentType="image/png"/>
  <Override PartName="/ppt/media/image16.wmf" ContentType="image/x-wmf"/>
  <Override PartName="/ppt/media/image11.wmf" ContentType="image/x-wmf"/>
  <Override PartName="/ppt/media/image3.png" ContentType="image/png"/>
  <Override PartName="/ppt/media/image7.png" ContentType="image/png"/>
  <Override PartName="/ppt/media/image15.wmf" ContentType="image/x-wmf"/>
  <Override PartName="/ppt/media/image6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5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10.wmf" ContentType="image/x-wmf"/>
  <Override PartName="/ppt/media/image2.png" ContentType="image/png"/>
  <Override PartName="/ppt/media/image20.wmf" ContentType="image/x-wmf"/>
  <Override PartName="/ppt/media/image18.wmf" ContentType="image/x-wmf"/>
  <Override PartName="/ppt/media/image1.png" ContentType="image/png"/>
  <Override PartName="/ppt/media/image14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F351F-68FA-4CE3-9C72-5FEEFA5B2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FDE76-4CB9-477F-9444-45C429464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5AF96-D893-45B6-8F19-282290B47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0A60D-489C-48B4-AA4E-8DCCE5F22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CD79B-78E7-40D2-9B98-585D48490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DAF68-131C-4B5D-8D90-BDBF441F6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02FC5-44F4-4A38-91BE-C8DC212F3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4958F-537D-40C6-A4E2-4ACDCB548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E9D1D-6266-4A23-9ECA-5561CE0D6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4B42A-B93A-42A8-A17E-370B93E00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545BD-F858-41B9-B980-251A427D3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E9258-88BF-44F0-A8B2-A450D2CB9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a6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9AF2E-4D65-48CF-A66A-66CBF113F0B1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image" Target="../media/image17.wmf"/><Relationship Id="rId6" Type="http://schemas.openxmlformats.org/officeDocument/2006/relationships/image" Target="../media/image18.wmf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3.wmf"/><Relationship Id="rId3" Type="http://schemas.openxmlformats.org/officeDocument/2006/relationships/image" Target="../media/image19.wmf"/><Relationship Id="rId4" Type="http://schemas.openxmlformats.org/officeDocument/2006/relationships/image" Target="../media/image20.wmf"/><Relationship Id="rId5" Type="http://schemas.openxmlformats.org/officeDocument/2006/relationships/image" Target="../media/image21.wmf"/><Relationship Id="rId6" Type="http://schemas.openxmlformats.org/officeDocument/2006/relationships/image" Target="../media/image22.wmf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package" Target="../embeddings/oleObject1.docx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a6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3520" y="279360"/>
            <a:ext cx="8001000" cy="947160"/>
          </a:xfrm>
          <a:prstGeom prst="rect">
            <a:avLst/>
          </a:prstGeom>
          <a:noFill/>
          <a:ln w="22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3333cc"/>
                </a:solidFill>
                <a:latin typeface="Arial"/>
              </a:rPr>
              <a:t>VII Expert Panel                                        Emissioni da Trasporto Strada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523880" y="2209680"/>
            <a:ext cx="6400800" cy="29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000000"/>
                </a:solidFill>
                <a:latin typeface="Arial"/>
              </a:rPr>
              <a:t>CARATTERIZZAZIONE DIMENSIONALE DEL PARTICOLATO EMESSO DA AUTOVEICOLI DIES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F.Avella, D.Fae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0" y="5194440"/>
            <a:ext cx="8381880" cy="1143000"/>
            <a:chOff x="0" y="5194440"/>
            <a:chExt cx="8381880" cy="1143000"/>
          </a:xfrm>
        </p:grpSpPr>
        <p:sp>
          <p:nvSpPr>
            <p:cNvPr id="44" name=""/>
            <p:cNvSpPr/>
            <p:nvPr/>
          </p:nvSpPr>
          <p:spPr>
            <a:xfrm>
              <a:off x="914400" y="6095880"/>
              <a:ext cx="7467480" cy="0"/>
            </a:xfrm>
            <a:prstGeom prst="line">
              <a:avLst/>
            </a:prstGeom>
            <a:ln w="7632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5" name="" descr=""/>
            <p:cNvPicPr/>
            <p:nvPr/>
          </p:nvPicPr>
          <p:blipFill>
            <a:blip r:embed="rId1"/>
            <a:stretch/>
          </p:blipFill>
          <p:spPr>
            <a:xfrm>
              <a:off x="0" y="5194440"/>
              <a:ext cx="809640" cy="114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961920" y="5575320"/>
              <a:ext cx="7391520" cy="0"/>
            </a:xfrm>
            <a:prstGeom prst="line">
              <a:avLst/>
            </a:prstGeom>
            <a:ln w="7632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317840" y="5842080"/>
              <a:ext cx="3048120" cy="47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5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996600"/>
                  </a:solidFill>
                  <a:latin typeface="Arial"/>
                </a:rPr>
                <a:t>San Donato Milanese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447920" y="5334120"/>
              <a:ext cx="53337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996600"/>
                  </a:solidFill>
                  <a:latin typeface="Arial"/>
                </a:rPr>
                <a:t>Stazione Sperimentale per i Combustibili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a6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143000" y="22860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RELAZIONE EMISSIONE IN NUMERO/V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D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28600" y="1371600"/>
            <a:ext cx="8763120" cy="5002200"/>
          </a:xfrm>
          <a:prstGeom prst="rect">
            <a:avLst/>
          </a:prstGeom>
          <a:ln w="0">
            <a:noFill/>
          </a:ln>
        </p:spPr>
      </p:pic>
      <p:grpSp>
        <p:nvGrpSpPr>
          <p:cNvPr id="129" name=""/>
          <p:cNvGrpSpPr/>
          <p:nvPr/>
        </p:nvGrpSpPr>
        <p:grpSpPr>
          <a:xfrm>
            <a:off x="7315200" y="1600200"/>
            <a:ext cx="1371600" cy="1155600"/>
            <a:chOff x="7315200" y="1600200"/>
            <a:chExt cx="1371600" cy="1155600"/>
          </a:xfrm>
        </p:grpSpPr>
        <p:sp>
          <p:nvSpPr>
            <p:cNvPr id="130" name=""/>
            <p:cNvSpPr/>
            <p:nvPr/>
          </p:nvSpPr>
          <p:spPr>
            <a:xfrm>
              <a:off x="7315200" y="1600200"/>
              <a:ext cx="1371600" cy="1155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620120" y="1752480"/>
              <a:ext cx="9144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 u="sng">
                  <a:solidFill>
                    <a:srgbClr val="000000"/>
                  </a:solidFill>
                  <a:uFillTx/>
                  <a:latin typeface="Arial"/>
                </a:rPr>
                <a:t>VEICOL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659000" y="2068560"/>
              <a:ext cx="4654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A  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8116200" y="2068560"/>
              <a:ext cx="3254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80"/>
                  </a:solidFill>
                  <a:latin typeface="Arial"/>
                </a:rPr>
                <a:t>B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659360" y="238572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8121240" y="238572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00080"/>
                  </a:solidFill>
                  <a:latin typeface="Arial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a6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981080" y="22860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MISSIONE ORARIA PM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[N/s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295280" y="762120"/>
            <a:ext cx="6115320" cy="1790640"/>
          </a:xfrm>
          <a:prstGeom prst="rect">
            <a:avLst/>
          </a:prstGeom>
          <a:ln w="0">
            <a:noFill/>
          </a:ln>
        </p:spPr>
      </p:pic>
      <p:grpSp>
        <p:nvGrpSpPr>
          <p:cNvPr id="138" name=""/>
          <p:cNvGrpSpPr/>
          <p:nvPr/>
        </p:nvGrpSpPr>
        <p:grpSpPr>
          <a:xfrm>
            <a:off x="685800" y="2695680"/>
            <a:ext cx="6724800" cy="1987560"/>
            <a:chOff x="685800" y="2695680"/>
            <a:chExt cx="6724800" cy="1987560"/>
          </a:xfrm>
        </p:grpSpPr>
        <p:pic>
          <p:nvPicPr>
            <p:cNvPr id="139" name="" descr=""/>
            <p:cNvPicPr/>
            <p:nvPr/>
          </p:nvPicPr>
          <p:blipFill>
            <a:blip r:embed="rId2"/>
            <a:stretch/>
          </p:blipFill>
          <p:spPr>
            <a:xfrm>
              <a:off x="685800" y="2772000"/>
              <a:ext cx="652320" cy="1911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" name="" descr=""/>
            <p:cNvPicPr/>
            <p:nvPr/>
          </p:nvPicPr>
          <p:blipFill>
            <a:blip r:embed="rId3"/>
            <a:stretch/>
          </p:blipFill>
          <p:spPr>
            <a:xfrm>
              <a:off x="1295280" y="2695680"/>
              <a:ext cx="6115320" cy="1971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1" name=""/>
          <p:cNvGrpSpPr/>
          <p:nvPr/>
        </p:nvGrpSpPr>
        <p:grpSpPr>
          <a:xfrm>
            <a:off x="1914480" y="2549520"/>
            <a:ext cx="5257800" cy="155880"/>
            <a:chOff x="1914480" y="2549520"/>
            <a:chExt cx="5257800" cy="155880"/>
          </a:xfrm>
        </p:grpSpPr>
        <p:grpSp>
          <p:nvGrpSpPr>
            <p:cNvPr id="142" name=""/>
            <p:cNvGrpSpPr/>
            <p:nvPr/>
          </p:nvGrpSpPr>
          <p:grpSpPr>
            <a:xfrm>
              <a:off x="1914480" y="2571840"/>
              <a:ext cx="2766960" cy="114120"/>
              <a:chOff x="1914480" y="2571840"/>
              <a:chExt cx="2766960" cy="114120"/>
            </a:xfrm>
          </p:grpSpPr>
          <p:sp>
            <p:nvSpPr>
              <p:cNvPr id="143" name=""/>
              <p:cNvSpPr/>
              <p:nvPr/>
            </p:nvSpPr>
            <p:spPr>
              <a:xfrm>
                <a:off x="1990800" y="2629080"/>
                <a:ext cx="261468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914480" y="2571840"/>
                <a:ext cx="95400" cy="104760"/>
              </a:xfrm>
              <a:custGeom>
                <a:avLst/>
                <a:gdLst/>
                <a:ahLst/>
                <a:rect l="l" t="t" r="r" b="b"/>
                <a:pathLst>
                  <a:path w="60" h="66">
                    <a:moveTo>
                      <a:pt x="60" y="0"/>
                    </a:moveTo>
                    <a:lnTo>
                      <a:pt x="0" y="36"/>
                    </a:lnTo>
                    <a:lnTo>
                      <a:pt x="60" y="66"/>
                    </a:lnTo>
                    <a:lnTo>
                      <a:pt x="6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4586400" y="2581200"/>
                <a:ext cx="95040" cy="104760"/>
              </a:xfrm>
              <a:custGeom>
                <a:avLst/>
                <a:gdLst/>
                <a:ahLst/>
                <a:rect l="l" t="t" r="r" b="b"/>
                <a:pathLst>
                  <a:path w="60" h="66">
                    <a:moveTo>
                      <a:pt x="0" y="66"/>
                    </a:moveTo>
                    <a:lnTo>
                      <a:pt x="60" y="30"/>
                    </a:lnTo>
                    <a:lnTo>
                      <a:pt x="0" y="0"/>
                    </a:lnTo>
                    <a:lnTo>
                      <a:pt x="0" y="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3068280" y="2549520"/>
              <a:ext cx="148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7" name=""/>
            <p:cNvGrpSpPr/>
            <p:nvPr/>
          </p:nvGrpSpPr>
          <p:grpSpPr>
            <a:xfrm>
              <a:off x="4662360" y="2571840"/>
              <a:ext cx="1660680" cy="104760"/>
              <a:chOff x="4662360" y="2571840"/>
              <a:chExt cx="1660680" cy="104760"/>
            </a:xfrm>
          </p:grpSpPr>
          <p:sp>
            <p:nvSpPr>
              <p:cNvPr id="148" name=""/>
              <p:cNvSpPr/>
              <p:nvPr/>
            </p:nvSpPr>
            <p:spPr>
              <a:xfrm flipV="1">
                <a:off x="4738680" y="2619000"/>
                <a:ext cx="1508040" cy="9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4662360" y="2571840"/>
                <a:ext cx="95400" cy="104760"/>
              </a:xfrm>
              <a:custGeom>
                <a:avLst/>
                <a:gdLst/>
                <a:ahLst/>
                <a:rect l="l" t="t" r="r" b="b"/>
                <a:pathLst>
                  <a:path w="60" h="66">
                    <a:moveTo>
                      <a:pt x="60" y="0"/>
                    </a:moveTo>
                    <a:lnTo>
                      <a:pt x="0" y="36"/>
                    </a:lnTo>
                    <a:lnTo>
                      <a:pt x="60" y="66"/>
                    </a:lnTo>
                    <a:lnTo>
                      <a:pt x="6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227640" y="2571840"/>
                <a:ext cx="95400" cy="104760"/>
              </a:xfrm>
              <a:custGeom>
                <a:avLst/>
                <a:gdLst/>
                <a:ahLst/>
                <a:rect l="l" t="t" r="r" b="b"/>
                <a:pathLst>
                  <a:path w="60" h="66">
                    <a:moveTo>
                      <a:pt x="0" y="66"/>
                    </a:moveTo>
                    <a:lnTo>
                      <a:pt x="60" y="30"/>
                    </a:lnTo>
                    <a:lnTo>
                      <a:pt x="0" y="0"/>
                    </a:lnTo>
                    <a:lnTo>
                      <a:pt x="0" y="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1" name=""/>
            <p:cNvGrpSpPr/>
            <p:nvPr/>
          </p:nvGrpSpPr>
          <p:grpSpPr>
            <a:xfrm>
              <a:off x="6313320" y="2571840"/>
              <a:ext cx="858960" cy="104760"/>
              <a:chOff x="6313320" y="2571840"/>
              <a:chExt cx="858960" cy="104760"/>
            </a:xfrm>
          </p:grpSpPr>
          <p:sp>
            <p:nvSpPr>
              <p:cNvPr id="152" name=""/>
              <p:cNvSpPr/>
              <p:nvPr/>
            </p:nvSpPr>
            <p:spPr>
              <a:xfrm flipV="1">
                <a:off x="6389640" y="2619000"/>
                <a:ext cx="706320" cy="9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6313320" y="2571840"/>
                <a:ext cx="95400" cy="104760"/>
              </a:xfrm>
              <a:custGeom>
                <a:avLst/>
                <a:gdLst/>
                <a:ahLst/>
                <a:rect l="l" t="t" r="r" b="b"/>
                <a:pathLst>
                  <a:path w="60" h="66">
                    <a:moveTo>
                      <a:pt x="60" y="0"/>
                    </a:moveTo>
                    <a:lnTo>
                      <a:pt x="0" y="36"/>
                    </a:lnTo>
                    <a:lnTo>
                      <a:pt x="60" y="66"/>
                    </a:lnTo>
                    <a:lnTo>
                      <a:pt x="6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077240" y="2571840"/>
                <a:ext cx="95040" cy="104760"/>
              </a:xfrm>
              <a:custGeom>
                <a:avLst/>
                <a:gdLst/>
                <a:ahLst/>
                <a:rect l="l" t="t" r="r" b="b"/>
                <a:pathLst>
                  <a:path w="60" h="66">
                    <a:moveTo>
                      <a:pt x="0" y="66"/>
                    </a:moveTo>
                    <a:lnTo>
                      <a:pt x="60" y="30"/>
                    </a:lnTo>
                    <a:lnTo>
                      <a:pt x="0" y="0"/>
                    </a:lnTo>
                    <a:lnTo>
                      <a:pt x="0" y="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5" name=""/>
            <p:cNvSpPr/>
            <p:nvPr/>
          </p:nvSpPr>
          <p:spPr>
            <a:xfrm>
              <a:off x="6564960" y="2549520"/>
              <a:ext cx="358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UD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71120" y="2552760"/>
              <a:ext cx="309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UD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749160" y="4584600"/>
            <a:ext cx="6634080" cy="2011320"/>
            <a:chOff x="749160" y="4584600"/>
            <a:chExt cx="6634080" cy="2011320"/>
          </a:xfrm>
        </p:grpSpPr>
        <p:pic>
          <p:nvPicPr>
            <p:cNvPr id="158" name="" descr=""/>
            <p:cNvPicPr/>
            <p:nvPr/>
          </p:nvPicPr>
          <p:blipFill>
            <a:blip r:embed="rId4"/>
            <a:stretch/>
          </p:blipFill>
          <p:spPr>
            <a:xfrm>
              <a:off x="749160" y="4684320"/>
              <a:ext cx="652320" cy="191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9" name="" descr=""/>
            <p:cNvPicPr/>
            <p:nvPr/>
          </p:nvPicPr>
          <p:blipFill>
            <a:blip r:embed="rId5"/>
            <a:stretch/>
          </p:blipFill>
          <p:spPr>
            <a:xfrm>
              <a:off x="1296720" y="4584600"/>
              <a:ext cx="6086520" cy="19522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60" name="" descr=""/>
          <p:cNvPicPr/>
          <p:nvPr/>
        </p:nvPicPr>
        <p:blipFill>
          <a:blip r:embed="rId6"/>
          <a:stretch/>
        </p:blipFill>
        <p:spPr>
          <a:xfrm>
            <a:off x="685800" y="762120"/>
            <a:ext cx="65232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a6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1981080" y="22860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MISSIONE ORARIA PM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[N/s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685800" y="762120"/>
            <a:ext cx="652320" cy="175248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1295280" y="762120"/>
            <a:ext cx="6115320" cy="1790640"/>
          </a:xfrm>
          <a:prstGeom prst="rect">
            <a:avLst/>
          </a:prstGeom>
          <a:ln w="0">
            <a:noFill/>
          </a:ln>
        </p:spPr>
      </p:pic>
      <p:grpSp>
        <p:nvGrpSpPr>
          <p:cNvPr id="164" name=""/>
          <p:cNvGrpSpPr/>
          <p:nvPr/>
        </p:nvGrpSpPr>
        <p:grpSpPr>
          <a:xfrm>
            <a:off x="762120" y="4622760"/>
            <a:ext cx="6724080" cy="1971720"/>
            <a:chOff x="762120" y="4622760"/>
            <a:chExt cx="6724080" cy="1971720"/>
          </a:xfrm>
        </p:grpSpPr>
        <p:pic>
          <p:nvPicPr>
            <p:cNvPr id="165" name="" descr=""/>
            <p:cNvPicPr/>
            <p:nvPr/>
          </p:nvPicPr>
          <p:blipFill>
            <a:blip r:embed="rId3"/>
            <a:stretch/>
          </p:blipFill>
          <p:spPr>
            <a:xfrm>
              <a:off x="762120" y="4622760"/>
              <a:ext cx="651960" cy="1911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6" name="" descr=""/>
            <p:cNvPicPr/>
            <p:nvPr/>
          </p:nvPicPr>
          <p:blipFill>
            <a:blip r:embed="rId4"/>
            <a:stretch/>
          </p:blipFill>
          <p:spPr>
            <a:xfrm>
              <a:off x="1371240" y="4622760"/>
              <a:ext cx="6114960" cy="1971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7" name=""/>
          <p:cNvGrpSpPr/>
          <p:nvPr/>
        </p:nvGrpSpPr>
        <p:grpSpPr>
          <a:xfrm>
            <a:off x="1914480" y="2549520"/>
            <a:ext cx="5257800" cy="155880"/>
            <a:chOff x="1914480" y="2549520"/>
            <a:chExt cx="5257800" cy="155880"/>
          </a:xfrm>
        </p:grpSpPr>
        <p:grpSp>
          <p:nvGrpSpPr>
            <p:cNvPr id="168" name=""/>
            <p:cNvGrpSpPr/>
            <p:nvPr/>
          </p:nvGrpSpPr>
          <p:grpSpPr>
            <a:xfrm>
              <a:off x="1914480" y="2571840"/>
              <a:ext cx="2766960" cy="114120"/>
              <a:chOff x="1914480" y="2571840"/>
              <a:chExt cx="2766960" cy="114120"/>
            </a:xfrm>
          </p:grpSpPr>
          <p:sp>
            <p:nvSpPr>
              <p:cNvPr id="169" name=""/>
              <p:cNvSpPr/>
              <p:nvPr/>
            </p:nvSpPr>
            <p:spPr>
              <a:xfrm>
                <a:off x="1990800" y="2629080"/>
                <a:ext cx="261468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1914480" y="2571840"/>
                <a:ext cx="95400" cy="104760"/>
              </a:xfrm>
              <a:custGeom>
                <a:avLst/>
                <a:gdLst/>
                <a:ahLst/>
                <a:rect l="l" t="t" r="r" b="b"/>
                <a:pathLst>
                  <a:path w="60" h="66">
                    <a:moveTo>
                      <a:pt x="60" y="0"/>
                    </a:moveTo>
                    <a:lnTo>
                      <a:pt x="0" y="36"/>
                    </a:lnTo>
                    <a:lnTo>
                      <a:pt x="60" y="66"/>
                    </a:lnTo>
                    <a:lnTo>
                      <a:pt x="6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4586400" y="2581200"/>
                <a:ext cx="95040" cy="104760"/>
              </a:xfrm>
              <a:custGeom>
                <a:avLst/>
                <a:gdLst/>
                <a:ahLst/>
                <a:rect l="l" t="t" r="r" b="b"/>
                <a:pathLst>
                  <a:path w="60" h="66">
                    <a:moveTo>
                      <a:pt x="0" y="66"/>
                    </a:moveTo>
                    <a:lnTo>
                      <a:pt x="60" y="30"/>
                    </a:lnTo>
                    <a:lnTo>
                      <a:pt x="0" y="0"/>
                    </a:lnTo>
                    <a:lnTo>
                      <a:pt x="0" y="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2" name=""/>
            <p:cNvSpPr/>
            <p:nvPr/>
          </p:nvSpPr>
          <p:spPr>
            <a:xfrm>
              <a:off x="3068280" y="2549520"/>
              <a:ext cx="148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3" name=""/>
            <p:cNvGrpSpPr/>
            <p:nvPr/>
          </p:nvGrpSpPr>
          <p:grpSpPr>
            <a:xfrm>
              <a:off x="4662360" y="2571840"/>
              <a:ext cx="1660680" cy="104760"/>
              <a:chOff x="4662360" y="2571840"/>
              <a:chExt cx="1660680" cy="104760"/>
            </a:xfrm>
          </p:grpSpPr>
          <p:sp>
            <p:nvSpPr>
              <p:cNvPr id="174" name=""/>
              <p:cNvSpPr/>
              <p:nvPr/>
            </p:nvSpPr>
            <p:spPr>
              <a:xfrm flipV="1">
                <a:off x="4738680" y="2619000"/>
                <a:ext cx="1508040" cy="9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4662360" y="2571840"/>
                <a:ext cx="95400" cy="104760"/>
              </a:xfrm>
              <a:custGeom>
                <a:avLst/>
                <a:gdLst/>
                <a:ahLst/>
                <a:rect l="l" t="t" r="r" b="b"/>
                <a:pathLst>
                  <a:path w="60" h="66">
                    <a:moveTo>
                      <a:pt x="60" y="0"/>
                    </a:moveTo>
                    <a:lnTo>
                      <a:pt x="0" y="36"/>
                    </a:lnTo>
                    <a:lnTo>
                      <a:pt x="60" y="66"/>
                    </a:lnTo>
                    <a:lnTo>
                      <a:pt x="6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6227640" y="2571840"/>
                <a:ext cx="95400" cy="104760"/>
              </a:xfrm>
              <a:custGeom>
                <a:avLst/>
                <a:gdLst/>
                <a:ahLst/>
                <a:rect l="l" t="t" r="r" b="b"/>
                <a:pathLst>
                  <a:path w="60" h="66">
                    <a:moveTo>
                      <a:pt x="0" y="66"/>
                    </a:moveTo>
                    <a:lnTo>
                      <a:pt x="60" y="30"/>
                    </a:lnTo>
                    <a:lnTo>
                      <a:pt x="0" y="0"/>
                    </a:lnTo>
                    <a:lnTo>
                      <a:pt x="0" y="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7" name=""/>
            <p:cNvGrpSpPr/>
            <p:nvPr/>
          </p:nvGrpSpPr>
          <p:grpSpPr>
            <a:xfrm>
              <a:off x="6313320" y="2571840"/>
              <a:ext cx="858960" cy="104760"/>
              <a:chOff x="6313320" y="2571840"/>
              <a:chExt cx="858960" cy="104760"/>
            </a:xfrm>
          </p:grpSpPr>
          <p:sp>
            <p:nvSpPr>
              <p:cNvPr id="178" name=""/>
              <p:cNvSpPr/>
              <p:nvPr/>
            </p:nvSpPr>
            <p:spPr>
              <a:xfrm flipV="1">
                <a:off x="6389640" y="2619000"/>
                <a:ext cx="706320" cy="9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6313320" y="2571840"/>
                <a:ext cx="95400" cy="104760"/>
              </a:xfrm>
              <a:custGeom>
                <a:avLst/>
                <a:gdLst/>
                <a:ahLst/>
                <a:rect l="l" t="t" r="r" b="b"/>
                <a:pathLst>
                  <a:path w="60" h="66">
                    <a:moveTo>
                      <a:pt x="60" y="0"/>
                    </a:moveTo>
                    <a:lnTo>
                      <a:pt x="0" y="36"/>
                    </a:lnTo>
                    <a:lnTo>
                      <a:pt x="60" y="66"/>
                    </a:lnTo>
                    <a:lnTo>
                      <a:pt x="6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7077240" y="2571840"/>
                <a:ext cx="95040" cy="104760"/>
              </a:xfrm>
              <a:custGeom>
                <a:avLst/>
                <a:gdLst/>
                <a:ahLst/>
                <a:rect l="l" t="t" r="r" b="b"/>
                <a:pathLst>
                  <a:path w="60" h="66">
                    <a:moveTo>
                      <a:pt x="0" y="66"/>
                    </a:moveTo>
                    <a:lnTo>
                      <a:pt x="60" y="30"/>
                    </a:lnTo>
                    <a:lnTo>
                      <a:pt x="0" y="0"/>
                    </a:lnTo>
                    <a:lnTo>
                      <a:pt x="0" y="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1" name=""/>
            <p:cNvSpPr/>
            <p:nvPr/>
          </p:nvSpPr>
          <p:spPr>
            <a:xfrm>
              <a:off x="6564960" y="2549520"/>
              <a:ext cx="358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UD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271120" y="2552760"/>
              <a:ext cx="309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UD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49160" y="2743200"/>
            <a:ext cx="6729480" cy="1943280"/>
            <a:chOff x="749160" y="2743200"/>
            <a:chExt cx="6729480" cy="1943280"/>
          </a:xfrm>
        </p:grpSpPr>
        <p:pic>
          <p:nvPicPr>
            <p:cNvPr id="184" name="" descr=""/>
            <p:cNvPicPr/>
            <p:nvPr/>
          </p:nvPicPr>
          <p:blipFill>
            <a:blip r:embed="rId5"/>
            <a:stretch/>
          </p:blipFill>
          <p:spPr>
            <a:xfrm>
              <a:off x="749160" y="2772000"/>
              <a:ext cx="652320" cy="1911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" descr=""/>
            <p:cNvPicPr/>
            <p:nvPr/>
          </p:nvPicPr>
          <p:blipFill>
            <a:blip r:embed="rId6"/>
            <a:stretch/>
          </p:blipFill>
          <p:spPr>
            <a:xfrm>
              <a:off x="1363680" y="2743200"/>
              <a:ext cx="6114960" cy="19432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a6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453960" y="3649680"/>
            <a:ext cx="3998880" cy="25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216080" y="4051440"/>
            <a:ext cx="3008160" cy="16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216080" y="5460840"/>
            <a:ext cx="30081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216080" y="5180040"/>
            <a:ext cx="3008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216080" y="4897440"/>
            <a:ext cx="3008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216080" y="4613400"/>
            <a:ext cx="3008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216080" y="4334040"/>
            <a:ext cx="3008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216080" y="4051440"/>
            <a:ext cx="3008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219400" y="4051440"/>
            <a:ext cx="1440" cy="1692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220920" y="4051440"/>
            <a:ext cx="1800" cy="1692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224240" y="4051440"/>
            <a:ext cx="1800" cy="1692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216080" y="4051440"/>
            <a:ext cx="3008160" cy="169200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16080" y="4051440"/>
            <a:ext cx="1440" cy="1692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182600" y="5743440"/>
            <a:ext cx="33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182600" y="5460840"/>
            <a:ext cx="33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182600" y="5180040"/>
            <a:ext cx="33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182600" y="4897440"/>
            <a:ext cx="33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182600" y="4613400"/>
            <a:ext cx="33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182600" y="4334040"/>
            <a:ext cx="33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182600" y="4051440"/>
            <a:ext cx="33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216080" y="5743440"/>
            <a:ext cx="30081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216080" y="5743080"/>
            <a:ext cx="1440" cy="24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517760" y="5743080"/>
            <a:ext cx="1440" cy="24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1695600" y="5743080"/>
            <a:ext cx="1440" cy="24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1819440" y="5743080"/>
            <a:ext cx="1440" cy="24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1917720" y="5743080"/>
            <a:ext cx="1440" cy="24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1996920" y="5743080"/>
            <a:ext cx="1800" cy="24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2063880" y="5743080"/>
            <a:ext cx="1440" cy="24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2120760" y="5743080"/>
            <a:ext cx="1800" cy="24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2173320" y="5743080"/>
            <a:ext cx="1440" cy="24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219400" y="5743080"/>
            <a:ext cx="1440" cy="24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21080" y="5743080"/>
            <a:ext cx="1440" cy="24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2697120" y="5743080"/>
            <a:ext cx="1800" cy="24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822400" y="5743080"/>
            <a:ext cx="1800" cy="24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919240" y="5743080"/>
            <a:ext cx="1800" cy="24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2998800" y="5743080"/>
            <a:ext cx="1440" cy="24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3067200" y="5743080"/>
            <a:ext cx="1440" cy="24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3124080" y="5743080"/>
            <a:ext cx="1800" cy="24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3176640" y="5743080"/>
            <a:ext cx="1440" cy="24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3220920" y="5743080"/>
            <a:ext cx="1800" cy="24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V="1">
            <a:off x="3524400" y="5743080"/>
            <a:ext cx="1440" cy="24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3700440" y="5743080"/>
            <a:ext cx="1440" cy="24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3825720" y="5743080"/>
            <a:ext cx="1800" cy="24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3922560" y="5743080"/>
            <a:ext cx="1800" cy="24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4002120" y="5743080"/>
            <a:ext cx="1440" cy="24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4068720" y="5743080"/>
            <a:ext cx="1800" cy="24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127400" y="5743080"/>
            <a:ext cx="1800" cy="24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4178160" y="5743080"/>
            <a:ext cx="1800" cy="24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4224240" y="5743080"/>
            <a:ext cx="1800" cy="24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V="1">
            <a:off x="1216080" y="5743080"/>
            <a:ext cx="144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2219400" y="5743080"/>
            <a:ext cx="144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3220920" y="5743080"/>
            <a:ext cx="180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224240" y="5743080"/>
            <a:ext cx="180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1695600" y="5046480"/>
            <a:ext cx="1440" cy="6966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695600" y="5046840"/>
            <a:ext cx="30132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996920" y="5046840"/>
            <a:ext cx="1800" cy="6966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996920" y="5743440"/>
            <a:ext cx="180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1996920" y="4456080"/>
            <a:ext cx="1800" cy="128736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996920" y="4456080"/>
            <a:ext cx="23976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236680" y="4456080"/>
            <a:ext cx="1800" cy="128736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236680" y="5743440"/>
            <a:ext cx="180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2236680" y="4689360"/>
            <a:ext cx="1800" cy="105408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236680" y="4689360"/>
            <a:ext cx="20160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438280" y="4689360"/>
            <a:ext cx="1800" cy="105408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438280" y="5743440"/>
            <a:ext cx="180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2438280" y="5398560"/>
            <a:ext cx="1800" cy="34452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438280" y="5398920"/>
            <a:ext cx="18576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624040" y="5398920"/>
            <a:ext cx="1800" cy="34452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624040" y="5743440"/>
            <a:ext cx="180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2624040" y="5654160"/>
            <a:ext cx="1800" cy="8892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24040" y="5654520"/>
            <a:ext cx="18900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813040" y="5654520"/>
            <a:ext cx="1440" cy="8892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813040" y="5743440"/>
            <a:ext cx="144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V="1">
            <a:off x="2813040" y="5722560"/>
            <a:ext cx="1440" cy="2052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813040" y="5722920"/>
            <a:ext cx="21132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024360" y="5722920"/>
            <a:ext cx="1440" cy="2052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024360" y="5743440"/>
            <a:ext cx="144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flipV="1">
            <a:off x="3024360" y="5736960"/>
            <a:ext cx="1440" cy="612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024360" y="5737320"/>
            <a:ext cx="19512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219480" y="5737320"/>
            <a:ext cx="1440" cy="612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219480" y="5743440"/>
            <a:ext cx="144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219480" y="5743440"/>
            <a:ext cx="144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219480" y="5743440"/>
            <a:ext cx="20628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425760" y="5743440"/>
            <a:ext cx="180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425760" y="5743440"/>
            <a:ext cx="180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425760" y="5743440"/>
            <a:ext cx="180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425760" y="5743440"/>
            <a:ext cx="18576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611520" y="5743440"/>
            <a:ext cx="180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611520" y="5743440"/>
            <a:ext cx="180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611520" y="5743440"/>
            <a:ext cx="180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611520" y="5743440"/>
            <a:ext cx="21132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22840" y="5743440"/>
            <a:ext cx="144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822840" y="5743440"/>
            <a:ext cx="144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822840" y="5743440"/>
            <a:ext cx="144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822840" y="5743440"/>
            <a:ext cx="22536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048200" y="5743440"/>
            <a:ext cx="144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048200" y="5743440"/>
            <a:ext cx="144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048200" y="5743440"/>
            <a:ext cx="144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048200" y="5743440"/>
            <a:ext cx="17928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230720" y="5743440"/>
            <a:ext cx="144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96960" y="5673600"/>
            <a:ext cx="432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.0E+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96960" y="5391000"/>
            <a:ext cx="432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5.0E+1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96960" y="5110200"/>
            <a:ext cx="432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.0E+1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96960" y="4827600"/>
            <a:ext cx="432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.5E+1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96960" y="4543560"/>
            <a:ext cx="432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.0E+1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96960" y="4264200"/>
            <a:ext cx="432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.5E+1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96960" y="3981600"/>
            <a:ext cx="432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.0E+1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102320" y="5840280"/>
            <a:ext cx="2246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.0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138760" y="5840280"/>
            <a:ext cx="160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.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190320" y="5840280"/>
            <a:ext cx="64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160160" y="5840280"/>
            <a:ext cx="128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478240" y="6002280"/>
            <a:ext cx="247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Dp [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727000" y="5992920"/>
            <a:ext cx="73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806560" y="6002280"/>
            <a:ext cx="156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 rot="16200000">
            <a:off x="-31680" y="4821840"/>
            <a:ext cx="1184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dN/dLogDp  [part/s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53960" y="3740040"/>
            <a:ext cx="104004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321640" y="3759120"/>
            <a:ext cx="812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Veicolo 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216080" y="1557360"/>
            <a:ext cx="2998800" cy="16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216080" y="2963880"/>
            <a:ext cx="299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216080" y="2681280"/>
            <a:ext cx="299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216080" y="2400480"/>
            <a:ext cx="299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216080" y="2120760"/>
            <a:ext cx="299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216080" y="1836720"/>
            <a:ext cx="299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216080" y="1557360"/>
            <a:ext cx="299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216160" y="1557360"/>
            <a:ext cx="1440" cy="1685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216240" y="1557360"/>
            <a:ext cx="1800" cy="1685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4880" y="1557360"/>
            <a:ext cx="1440" cy="1685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216080" y="1557360"/>
            <a:ext cx="2998800" cy="168588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216080" y="1557360"/>
            <a:ext cx="1440" cy="1685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182600" y="3243240"/>
            <a:ext cx="33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182600" y="2963880"/>
            <a:ext cx="33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182600" y="2681280"/>
            <a:ext cx="33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182600" y="2400480"/>
            <a:ext cx="33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182600" y="2120760"/>
            <a:ext cx="33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182600" y="1836720"/>
            <a:ext cx="33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182600" y="1557360"/>
            <a:ext cx="33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216080" y="3243240"/>
            <a:ext cx="299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1216080" y="3242880"/>
            <a:ext cx="144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flipV="1">
            <a:off x="1517760" y="3242880"/>
            <a:ext cx="144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V="1">
            <a:off x="1692360" y="3242880"/>
            <a:ext cx="144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1816200" y="3242880"/>
            <a:ext cx="144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1914480" y="3242880"/>
            <a:ext cx="180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flipV="1">
            <a:off x="1994040" y="3242880"/>
            <a:ext cx="144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V="1">
            <a:off x="2060640" y="3242880"/>
            <a:ext cx="144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flipV="1">
            <a:off x="2117880" y="3242880"/>
            <a:ext cx="144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2170080" y="3242880"/>
            <a:ext cx="180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flipV="1">
            <a:off x="2216160" y="3242880"/>
            <a:ext cx="144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 flipV="1">
            <a:off x="2517840" y="3242880"/>
            <a:ext cx="144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 flipV="1">
            <a:off x="2690640" y="3242880"/>
            <a:ext cx="180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2816280" y="3242880"/>
            <a:ext cx="144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V="1">
            <a:off x="2914560" y="3242880"/>
            <a:ext cx="180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flipV="1">
            <a:off x="2992320" y="3242880"/>
            <a:ext cx="180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 flipV="1">
            <a:off x="3060720" y="3242880"/>
            <a:ext cx="144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3117960" y="3242880"/>
            <a:ext cx="144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 flipV="1">
            <a:off x="3170160" y="3242880"/>
            <a:ext cx="180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3216240" y="3242880"/>
            <a:ext cx="180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 flipV="1">
            <a:off x="3517920" y="3242880"/>
            <a:ext cx="144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flipV="1">
            <a:off x="3691080" y="3242880"/>
            <a:ext cx="144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 flipV="1">
            <a:off x="3816360" y="3242880"/>
            <a:ext cx="144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flipV="1">
            <a:off x="3913200" y="3242880"/>
            <a:ext cx="144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flipV="1">
            <a:off x="3992400" y="3242880"/>
            <a:ext cx="180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flipV="1">
            <a:off x="4059360" y="3242880"/>
            <a:ext cx="144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 flipV="1">
            <a:off x="4118040" y="3242880"/>
            <a:ext cx="144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 flipV="1">
            <a:off x="4170240" y="3242880"/>
            <a:ext cx="180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 flipV="1">
            <a:off x="4214880" y="3242880"/>
            <a:ext cx="144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flipV="1">
            <a:off x="1216080" y="3242880"/>
            <a:ext cx="144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 flipV="1">
            <a:off x="2216160" y="3242880"/>
            <a:ext cx="144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 flipV="1">
            <a:off x="3216240" y="3242880"/>
            <a:ext cx="180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 flipV="1">
            <a:off x="4214880" y="3242880"/>
            <a:ext cx="144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flipV="1">
            <a:off x="1692360" y="2436840"/>
            <a:ext cx="1440" cy="8064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692360" y="2436840"/>
            <a:ext cx="30168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994040" y="2436840"/>
            <a:ext cx="1440" cy="8064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994040" y="3243240"/>
            <a:ext cx="144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V="1">
            <a:off x="1994040" y="1800360"/>
            <a:ext cx="1440" cy="144288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994040" y="1800360"/>
            <a:ext cx="23940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233440" y="1800360"/>
            <a:ext cx="1800" cy="144288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233440" y="3243240"/>
            <a:ext cx="180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V="1">
            <a:off x="2233440" y="2239560"/>
            <a:ext cx="1800" cy="100332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2233440" y="2239920"/>
            <a:ext cx="19872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2432160" y="2239920"/>
            <a:ext cx="1440" cy="100332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432160" y="3243240"/>
            <a:ext cx="144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V="1">
            <a:off x="2432160" y="3045960"/>
            <a:ext cx="1440" cy="19692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432160" y="3046320"/>
            <a:ext cx="18864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620800" y="3046320"/>
            <a:ext cx="1800" cy="19692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620800" y="3243240"/>
            <a:ext cx="180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 flipV="1">
            <a:off x="2620800" y="3209400"/>
            <a:ext cx="1800" cy="3348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620800" y="3209760"/>
            <a:ext cx="18576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806560" y="3209760"/>
            <a:ext cx="1800" cy="3348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806560" y="3243240"/>
            <a:ext cx="180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 flipV="1">
            <a:off x="2806560" y="3231720"/>
            <a:ext cx="1800" cy="1116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06560" y="3232080"/>
            <a:ext cx="21132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17880" y="3232080"/>
            <a:ext cx="1440" cy="1116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017880" y="3243240"/>
            <a:ext cx="144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 flipV="1">
            <a:off x="3017880" y="3241800"/>
            <a:ext cx="144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017880" y="3241800"/>
            <a:ext cx="19512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213000" y="3241800"/>
            <a:ext cx="180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13000" y="3243240"/>
            <a:ext cx="180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213000" y="3243240"/>
            <a:ext cx="180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213000" y="3243240"/>
            <a:ext cx="20664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419640" y="3243240"/>
            <a:ext cx="144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493560" y="1316160"/>
            <a:ext cx="8643960" cy="4881600"/>
            <a:chOff x="493560" y="1316160"/>
            <a:chExt cx="8643960" cy="4881600"/>
          </a:xfrm>
        </p:grpSpPr>
        <p:sp>
          <p:nvSpPr>
            <p:cNvPr id="387" name=""/>
            <p:cNvSpPr/>
            <p:nvPr/>
          </p:nvSpPr>
          <p:spPr>
            <a:xfrm>
              <a:off x="3419640" y="3243240"/>
              <a:ext cx="1440" cy="1440"/>
            </a:xfrm>
            <a:prstGeom prst="line">
              <a:avLst/>
            </a:prstGeom>
            <a:ln w="23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3419640" y="3243240"/>
              <a:ext cx="1440" cy="1440"/>
            </a:xfrm>
            <a:prstGeom prst="line">
              <a:avLst/>
            </a:prstGeom>
            <a:ln w="23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419640" y="3243240"/>
              <a:ext cx="185400" cy="1440"/>
            </a:xfrm>
            <a:prstGeom prst="line">
              <a:avLst/>
            </a:prstGeom>
            <a:ln w="23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3605040" y="3243240"/>
              <a:ext cx="1800" cy="1440"/>
            </a:xfrm>
            <a:prstGeom prst="line">
              <a:avLst/>
            </a:prstGeom>
            <a:ln w="23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3605040" y="3243240"/>
              <a:ext cx="1800" cy="1440"/>
            </a:xfrm>
            <a:prstGeom prst="line">
              <a:avLst/>
            </a:prstGeom>
            <a:ln w="23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605040" y="3243240"/>
              <a:ext cx="1800" cy="1440"/>
            </a:xfrm>
            <a:prstGeom prst="line">
              <a:avLst/>
            </a:prstGeom>
            <a:ln w="23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3605040" y="3243240"/>
              <a:ext cx="208080" cy="1440"/>
            </a:xfrm>
            <a:prstGeom prst="line">
              <a:avLst/>
            </a:prstGeom>
            <a:ln w="23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813120" y="3243240"/>
              <a:ext cx="1800" cy="1440"/>
            </a:xfrm>
            <a:prstGeom prst="line">
              <a:avLst/>
            </a:prstGeom>
            <a:ln w="23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3813120" y="3243240"/>
              <a:ext cx="1800" cy="1440"/>
            </a:xfrm>
            <a:prstGeom prst="line">
              <a:avLst/>
            </a:prstGeom>
            <a:ln w="23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13120" y="3243240"/>
              <a:ext cx="1800" cy="1440"/>
            </a:xfrm>
            <a:prstGeom prst="line">
              <a:avLst/>
            </a:prstGeom>
            <a:ln w="23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3813120" y="3243240"/>
              <a:ext cx="225360" cy="1440"/>
            </a:xfrm>
            <a:prstGeom prst="line">
              <a:avLst/>
            </a:prstGeom>
            <a:ln w="23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038480" y="3243240"/>
              <a:ext cx="1800" cy="1440"/>
            </a:xfrm>
            <a:prstGeom prst="line">
              <a:avLst/>
            </a:prstGeom>
            <a:ln w="23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4038480" y="3243240"/>
              <a:ext cx="1800" cy="1440"/>
            </a:xfrm>
            <a:prstGeom prst="line">
              <a:avLst/>
            </a:prstGeom>
            <a:ln w="23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4038480" y="3243240"/>
              <a:ext cx="1800" cy="1440"/>
            </a:xfrm>
            <a:prstGeom prst="line">
              <a:avLst/>
            </a:prstGeom>
            <a:ln w="23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4038480" y="3243240"/>
              <a:ext cx="179640" cy="1440"/>
            </a:xfrm>
            <a:prstGeom prst="line">
              <a:avLst/>
            </a:prstGeom>
            <a:ln w="23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4221000" y="3243240"/>
              <a:ext cx="1800" cy="1440"/>
            </a:xfrm>
            <a:prstGeom prst="line">
              <a:avLst/>
            </a:prstGeom>
            <a:ln w="23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6960" y="3173400"/>
              <a:ext cx="432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.0E+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696960" y="2894040"/>
              <a:ext cx="432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.5E+1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696960" y="2611440"/>
              <a:ext cx="432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.0E+1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96960" y="2330280"/>
              <a:ext cx="432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7.5E+1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696960" y="2050920"/>
              <a:ext cx="432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.0E+1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96960" y="1766880"/>
              <a:ext cx="432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.3E+1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96960" y="1487520"/>
              <a:ext cx="432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.5E+1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102320" y="3341520"/>
              <a:ext cx="224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.0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2135520" y="3341520"/>
              <a:ext cx="160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.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3183840" y="33415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4150440" y="334152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2465280" y="3398760"/>
              <a:ext cx="2476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000" spc="-1" strike="noStrike">
                  <a:solidFill>
                    <a:srgbClr val="000000"/>
                  </a:solidFill>
                  <a:latin typeface="Arial"/>
                </a:rPr>
                <a:t>Dp [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2715840" y="3389400"/>
              <a:ext cx="7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2795400" y="3398760"/>
              <a:ext cx="15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m]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 rot="16200000">
              <a:off x="-22320" y="2309040"/>
              <a:ext cx="1184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000" spc="-1" strike="noStrike">
                  <a:solidFill>
                    <a:srgbClr val="000000"/>
                  </a:solidFill>
                  <a:latin typeface="Arial"/>
                </a:rPr>
                <a:t>dN/dLogDp  [part/s]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554360" y="1316160"/>
              <a:ext cx="4580280" cy="252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5465880" y="1560600"/>
              <a:ext cx="3197160" cy="168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5465880" y="2963880"/>
              <a:ext cx="3197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5465880" y="2684520"/>
              <a:ext cx="3197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5465880" y="2403360"/>
              <a:ext cx="31971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5465880" y="2120760"/>
              <a:ext cx="31971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5465880" y="1839960"/>
              <a:ext cx="3197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465880" y="1560600"/>
              <a:ext cx="3197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532560" y="1560600"/>
              <a:ext cx="1440" cy="1682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7596360" y="1560600"/>
              <a:ext cx="1440" cy="1682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8663040" y="1560600"/>
              <a:ext cx="1440" cy="1682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5465880" y="1560600"/>
              <a:ext cx="3197160" cy="16826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5465880" y="1560600"/>
              <a:ext cx="1440" cy="1682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5430960" y="3243240"/>
              <a:ext cx="34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5430960" y="2963880"/>
              <a:ext cx="34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5430960" y="2684520"/>
              <a:ext cx="34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5430960" y="2403360"/>
              <a:ext cx="349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430960" y="2120760"/>
              <a:ext cx="349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430960" y="1839960"/>
              <a:ext cx="34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5430960" y="1560600"/>
              <a:ext cx="34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465880" y="3243240"/>
              <a:ext cx="3197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 flipV="1">
              <a:off x="5465880" y="3242880"/>
              <a:ext cx="1440" cy="25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 flipV="1">
              <a:off x="5784840" y="3242880"/>
              <a:ext cx="1440" cy="25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 flipV="1">
              <a:off x="5973840" y="3242880"/>
              <a:ext cx="1440" cy="25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 flipV="1">
              <a:off x="6108840" y="3242880"/>
              <a:ext cx="1440" cy="25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 flipV="1">
              <a:off x="6208560" y="3242880"/>
              <a:ext cx="1800" cy="25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 flipV="1">
              <a:off x="6294600" y="3242880"/>
              <a:ext cx="1440" cy="25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 flipV="1">
              <a:off x="6367320" y="3242880"/>
              <a:ext cx="1800" cy="25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 flipV="1">
              <a:off x="6427800" y="3242880"/>
              <a:ext cx="1440" cy="25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 flipV="1">
              <a:off x="6483240" y="3242880"/>
              <a:ext cx="1800" cy="25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 flipV="1">
              <a:off x="6532560" y="3242880"/>
              <a:ext cx="1440" cy="25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 flipV="1">
              <a:off x="6851520" y="3242880"/>
              <a:ext cx="1800" cy="25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 flipV="1">
              <a:off x="7040520" y="3242880"/>
              <a:ext cx="1800" cy="25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V="1">
              <a:off x="7172280" y="3242880"/>
              <a:ext cx="1800" cy="25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V="1">
              <a:off x="7275600" y="3242880"/>
              <a:ext cx="1440" cy="25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V="1">
              <a:off x="7361280" y="3242880"/>
              <a:ext cx="1440" cy="25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 flipV="1">
              <a:off x="7431120" y="3242880"/>
              <a:ext cx="1440" cy="25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 flipV="1">
              <a:off x="7491240" y="3242880"/>
              <a:ext cx="1800" cy="25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 flipV="1">
              <a:off x="7547040" y="3242880"/>
              <a:ext cx="1440" cy="25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 flipV="1">
              <a:off x="7596360" y="3242880"/>
              <a:ext cx="1440" cy="25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 flipV="1">
              <a:off x="7918560" y="3242880"/>
              <a:ext cx="1440" cy="25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flipV="1">
              <a:off x="8104320" y="3242880"/>
              <a:ext cx="1440" cy="25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 flipV="1">
              <a:off x="8238960" y="3242880"/>
              <a:ext cx="1800" cy="25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flipV="1">
              <a:off x="8342280" y="3242880"/>
              <a:ext cx="1800" cy="25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 flipV="1">
              <a:off x="8424720" y="3242880"/>
              <a:ext cx="1800" cy="25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flipV="1">
              <a:off x="8497800" y="3242880"/>
              <a:ext cx="1800" cy="25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 flipV="1">
              <a:off x="8558280" y="3242880"/>
              <a:ext cx="1440" cy="25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8613720" y="3242880"/>
              <a:ext cx="1800" cy="25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 flipV="1">
              <a:off x="8663040" y="3242880"/>
              <a:ext cx="1440" cy="25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5465880" y="3242880"/>
              <a:ext cx="1440" cy="34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 flipV="1">
              <a:off x="6532560" y="3242880"/>
              <a:ext cx="1440" cy="34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flipV="1">
              <a:off x="7596360" y="3242880"/>
              <a:ext cx="1440" cy="34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 flipV="1">
              <a:off x="8663040" y="3242880"/>
              <a:ext cx="1440" cy="34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 flipV="1">
              <a:off x="5973840" y="2379240"/>
              <a:ext cx="1440" cy="863640"/>
            </a:xfrm>
            <a:prstGeom prst="line">
              <a:avLst/>
            </a:prstGeom>
            <a:ln w="23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5973840" y="2379600"/>
              <a:ext cx="320760" cy="1800"/>
            </a:xfrm>
            <a:prstGeom prst="line">
              <a:avLst/>
            </a:prstGeom>
            <a:ln w="23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6294600" y="2379600"/>
              <a:ext cx="1440" cy="863640"/>
            </a:xfrm>
            <a:prstGeom prst="line">
              <a:avLst/>
            </a:prstGeom>
            <a:ln w="23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6294600" y="3243240"/>
              <a:ext cx="1440" cy="1440"/>
            </a:xfrm>
            <a:prstGeom prst="line">
              <a:avLst/>
            </a:prstGeom>
            <a:ln w="23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V="1">
              <a:off x="6294600" y="2004840"/>
              <a:ext cx="1440" cy="1238400"/>
            </a:xfrm>
            <a:prstGeom prst="line">
              <a:avLst/>
            </a:prstGeom>
            <a:ln w="23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6294600" y="2004840"/>
              <a:ext cx="255600" cy="1800"/>
            </a:xfrm>
            <a:prstGeom prst="line">
              <a:avLst/>
            </a:prstGeom>
            <a:ln w="23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6550200" y="2004840"/>
              <a:ext cx="1440" cy="1238400"/>
            </a:xfrm>
            <a:prstGeom prst="line">
              <a:avLst/>
            </a:prstGeom>
            <a:ln w="23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6550200" y="3243240"/>
              <a:ext cx="1440" cy="1440"/>
            </a:xfrm>
            <a:prstGeom prst="line">
              <a:avLst/>
            </a:prstGeom>
            <a:ln w="23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 flipV="1">
              <a:off x="6550200" y="2406600"/>
              <a:ext cx="1440" cy="836640"/>
            </a:xfrm>
            <a:prstGeom prst="line">
              <a:avLst/>
            </a:prstGeom>
            <a:ln w="23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6550200" y="2406600"/>
              <a:ext cx="214200" cy="1800"/>
            </a:xfrm>
            <a:prstGeom prst="line">
              <a:avLst/>
            </a:prstGeom>
            <a:ln w="23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6764400" y="2406600"/>
              <a:ext cx="1440" cy="836640"/>
            </a:xfrm>
            <a:prstGeom prst="line">
              <a:avLst/>
            </a:prstGeom>
            <a:ln w="23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6764400" y="3243240"/>
              <a:ext cx="1440" cy="1440"/>
            </a:xfrm>
            <a:prstGeom prst="line">
              <a:avLst/>
            </a:prstGeom>
            <a:ln w="23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 flipV="1">
              <a:off x="6764400" y="2847960"/>
              <a:ext cx="1440" cy="395280"/>
            </a:xfrm>
            <a:prstGeom prst="line">
              <a:avLst/>
            </a:prstGeom>
            <a:ln w="23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6764400" y="2847960"/>
              <a:ext cx="196920" cy="1440"/>
            </a:xfrm>
            <a:prstGeom prst="line">
              <a:avLst/>
            </a:prstGeom>
            <a:ln w="23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6961320" y="2847960"/>
              <a:ext cx="1440" cy="395280"/>
            </a:xfrm>
            <a:prstGeom prst="line">
              <a:avLst/>
            </a:prstGeom>
            <a:ln w="23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6961320" y="3243240"/>
              <a:ext cx="1440" cy="1440"/>
            </a:xfrm>
            <a:prstGeom prst="line">
              <a:avLst/>
            </a:prstGeom>
            <a:ln w="23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V="1">
              <a:off x="6961320" y="3146040"/>
              <a:ext cx="1440" cy="96840"/>
            </a:xfrm>
            <a:prstGeom prst="line">
              <a:avLst/>
            </a:prstGeom>
            <a:ln w="23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6961320" y="3146400"/>
              <a:ext cx="201600" cy="1440"/>
            </a:xfrm>
            <a:prstGeom prst="line">
              <a:avLst/>
            </a:prstGeom>
            <a:ln w="23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7162920" y="3146400"/>
              <a:ext cx="1440" cy="96840"/>
            </a:xfrm>
            <a:prstGeom prst="line">
              <a:avLst/>
            </a:prstGeom>
            <a:ln w="23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7162920" y="3243240"/>
              <a:ext cx="1440" cy="1440"/>
            </a:xfrm>
            <a:prstGeom prst="line">
              <a:avLst/>
            </a:prstGeom>
            <a:ln w="23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 flipV="1">
              <a:off x="7162920" y="3222360"/>
              <a:ext cx="1440" cy="20520"/>
            </a:xfrm>
            <a:prstGeom prst="line">
              <a:avLst/>
            </a:prstGeom>
            <a:ln w="23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7162920" y="3222720"/>
              <a:ext cx="222120" cy="1440"/>
            </a:xfrm>
            <a:prstGeom prst="line">
              <a:avLst/>
            </a:prstGeom>
            <a:ln w="23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7385040" y="3222720"/>
              <a:ext cx="1440" cy="20520"/>
            </a:xfrm>
            <a:prstGeom prst="line">
              <a:avLst/>
            </a:prstGeom>
            <a:ln w="23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7385040" y="3243240"/>
              <a:ext cx="1440" cy="1440"/>
            </a:xfrm>
            <a:prstGeom prst="line">
              <a:avLst/>
            </a:prstGeom>
            <a:ln w="23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 flipV="1">
              <a:off x="7385040" y="3241800"/>
              <a:ext cx="1440" cy="1440"/>
            </a:xfrm>
            <a:prstGeom prst="line">
              <a:avLst/>
            </a:prstGeom>
            <a:ln w="23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7385040" y="3241800"/>
              <a:ext cx="208080" cy="1440"/>
            </a:xfrm>
            <a:prstGeom prst="line">
              <a:avLst/>
            </a:prstGeom>
            <a:ln w="23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7593120" y="3241800"/>
              <a:ext cx="1440" cy="1440"/>
            </a:xfrm>
            <a:prstGeom prst="line">
              <a:avLst/>
            </a:prstGeom>
            <a:ln w="23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7593120" y="3243240"/>
              <a:ext cx="1440" cy="1440"/>
            </a:xfrm>
            <a:prstGeom prst="line">
              <a:avLst/>
            </a:prstGeom>
            <a:ln w="23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7593120" y="3243240"/>
              <a:ext cx="1440" cy="1440"/>
            </a:xfrm>
            <a:prstGeom prst="line">
              <a:avLst/>
            </a:prstGeom>
            <a:ln w="23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7593120" y="3243240"/>
              <a:ext cx="222120" cy="1440"/>
            </a:xfrm>
            <a:prstGeom prst="line">
              <a:avLst/>
            </a:prstGeom>
            <a:ln w="23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7815240" y="3243240"/>
              <a:ext cx="1440" cy="1440"/>
            </a:xfrm>
            <a:prstGeom prst="line">
              <a:avLst/>
            </a:prstGeom>
            <a:ln w="23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7815240" y="3243240"/>
              <a:ext cx="1440" cy="1440"/>
            </a:xfrm>
            <a:prstGeom prst="line">
              <a:avLst/>
            </a:prstGeom>
            <a:ln w="23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7815240" y="3243240"/>
              <a:ext cx="1440" cy="1440"/>
            </a:xfrm>
            <a:prstGeom prst="line">
              <a:avLst/>
            </a:prstGeom>
            <a:ln w="23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7815240" y="3243240"/>
              <a:ext cx="195120" cy="1440"/>
            </a:xfrm>
            <a:prstGeom prst="line">
              <a:avLst/>
            </a:prstGeom>
            <a:ln w="23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8010360" y="3243240"/>
              <a:ext cx="1800" cy="1440"/>
            </a:xfrm>
            <a:prstGeom prst="line">
              <a:avLst/>
            </a:prstGeom>
            <a:ln w="23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8010360" y="3243240"/>
              <a:ext cx="1800" cy="1440"/>
            </a:xfrm>
            <a:prstGeom prst="line">
              <a:avLst/>
            </a:prstGeom>
            <a:ln w="23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8010360" y="3243240"/>
              <a:ext cx="1800" cy="1440"/>
            </a:xfrm>
            <a:prstGeom prst="line">
              <a:avLst/>
            </a:prstGeom>
            <a:ln w="23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8010360" y="3243240"/>
              <a:ext cx="222480" cy="1440"/>
            </a:xfrm>
            <a:prstGeom prst="line">
              <a:avLst/>
            </a:prstGeom>
            <a:ln w="23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8232840" y="3243240"/>
              <a:ext cx="1440" cy="1440"/>
            </a:xfrm>
            <a:prstGeom prst="line">
              <a:avLst/>
            </a:prstGeom>
            <a:ln w="23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8232840" y="3243240"/>
              <a:ext cx="1440" cy="1440"/>
            </a:xfrm>
            <a:prstGeom prst="line">
              <a:avLst/>
            </a:prstGeom>
            <a:ln w="23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8232840" y="3243240"/>
              <a:ext cx="1440" cy="1440"/>
            </a:xfrm>
            <a:prstGeom prst="line">
              <a:avLst/>
            </a:prstGeom>
            <a:ln w="23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8232840" y="3243240"/>
              <a:ext cx="244440" cy="1440"/>
            </a:xfrm>
            <a:prstGeom prst="line">
              <a:avLst/>
            </a:prstGeom>
            <a:ln w="23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8477280" y="3243240"/>
              <a:ext cx="1440" cy="1440"/>
            </a:xfrm>
            <a:prstGeom prst="line">
              <a:avLst/>
            </a:prstGeom>
            <a:ln w="23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8477280" y="3243240"/>
              <a:ext cx="1440" cy="1440"/>
            </a:xfrm>
            <a:prstGeom prst="line">
              <a:avLst/>
            </a:prstGeom>
            <a:ln w="23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8477280" y="3243240"/>
              <a:ext cx="1440" cy="1440"/>
            </a:xfrm>
            <a:prstGeom prst="line">
              <a:avLst/>
            </a:prstGeom>
            <a:ln w="23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8477280" y="3243240"/>
              <a:ext cx="189000" cy="1440"/>
            </a:xfrm>
            <a:prstGeom prst="line">
              <a:avLst/>
            </a:prstGeom>
            <a:ln w="23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8669160" y="3243240"/>
              <a:ext cx="1800" cy="1440"/>
            </a:xfrm>
            <a:prstGeom prst="line">
              <a:avLst/>
            </a:prstGeom>
            <a:ln w="23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944960" y="3173400"/>
              <a:ext cx="432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.0E+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4944960" y="2894040"/>
              <a:ext cx="432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.0E+1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4944960" y="2612880"/>
              <a:ext cx="432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.0E+1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944960" y="2333520"/>
              <a:ext cx="432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.5E+1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4944960" y="2050920"/>
              <a:ext cx="432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.0E+1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4944960" y="1770120"/>
              <a:ext cx="432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.5E+1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4944960" y="1490760"/>
              <a:ext cx="432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.0E+1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5352120" y="3341520"/>
              <a:ext cx="224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.0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6452280" y="3341520"/>
              <a:ext cx="160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.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7565400" y="33415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8597160" y="334152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6831000" y="3411360"/>
              <a:ext cx="2476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000" spc="-1" strike="noStrike">
                  <a:solidFill>
                    <a:srgbClr val="000000"/>
                  </a:solidFill>
                  <a:latin typeface="Arial"/>
                </a:rPr>
                <a:t>Dp [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7079760" y="3402000"/>
              <a:ext cx="7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7159320" y="3411360"/>
              <a:ext cx="15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m]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 rot="16200000">
              <a:off x="4217760" y="2326320"/>
              <a:ext cx="1184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000" spc="-1" strike="noStrike">
                  <a:solidFill>
                    <a:srgbClr val="000000"/>
                  </a:solidFill>
                  <a:latin typeface="Arial"/>
                </a:rPr>
                <a:t>dN/dLogDp  [part/s]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4554360" y="3649680"/>
              <a:ext cx="4583160" cy="254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5459400" y="4048200"/>
              <a:ext cx="3236760" cy="16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5459400" y="5402160"/>
              <a:ext cx="32367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5459400" y="5064120"/>
              <a:ext cx="32367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5459400" y="4724280"/>
              <a:ext cx="32367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5459400" y="4386240"/>
              <a:ext cx="32367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459400" y="4048200"/>
              <a:ext cx="32367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6537240" y="4048200"/>
              <a:ext cx="1800" cy="1692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7616880" y="4048200"/>
              <a:ext cx="1440" cy="1692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8696160" y="4048200"/>
              <a:ext cx="1800" cy="1692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5459400" y="4048200"/>
              <a:ext cx="3236760" cy="169236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5459400" y="4048200"/>
              <a:ext cx="1440" cy="1692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5425920" y="5740560"/>
              <a:ext cx="334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5425920" y="5402160"/>
              <a:ext cx="334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425920" y="5064120"/>
              <a:ext cx="334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5425920" y="4724280"/>
              <a:ext cx="334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5425920" y="4386240"/>
              <a:ext cx="334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5425920" y="4048200"/>
              <a:ext cx="334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5459400" y="5740560"/>
              <a:ext cx="32367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 flipV="1">
              <a:off x="5459400" y="5740560"/>
              <a:ext cx="1440" cy="23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 flipV="1">
              <a:off x="5784840" y="5740560"/>
              <a:ext cx="1440" cy="23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 flipV="1">
              <a:off x="5973840" y="5740560"/>
              <a:ext cx="1440" cy="23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 flipV="1">
              <a:off x="6108840" y="5740560"/>
              <a:ext cx="1440" cy="23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 flipV="1">
              <a:off x="6211800" y="5740560"/>
              <a:ext cx="1800" cy="23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flipV="1">
              <a:off x="6297480" y="5740560"/>
              <a:ext cx="1800" cy="23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 flipV="1">
              <a:off x="6370560" y="5740560"/>
              <a:ext cx="1800" cy="23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 flipV="1">
              <a:off x="6434280" y="5740560"/>
              <a:ext cx="1440" cy="23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489720" y="5740560"/>
              <a:ext cx="1440" cy="23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 flipV="1">
              <a:off x="6537240" y="5740560"/>
              <a:ext cx="1800" cy="23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 flipV="1">
              <a:off x="6864480" y="5740560"/>
              <a:ext cx="1440" cy="23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 flipV="1">
              <a:off x="7053120" y="5740560"/>
              <a:ext cx="1800" cy="23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 flipV="1">
              <a:off x="7186680" y="5740560"/>
              <a:ext cx="1440" cy="23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 flipV="1">
              <a:off x="7291440" y="5740560"/>
              <a:ext cx="1440" cy="23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 flipV="1">
              <a:off x="7375680" y="5740560"/>
              <a:ext cx="1440" cy="23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 flipV="1">
              <a:off x="7450200" y="5740560"/>
              <a:ext cx="1440" cy="23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 flipV="1">
              <a:off x="7513560" y="5740560"/>
              <a:ext cx="1800" cy="23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 flipV="1">
              <a:off x="7567560" y="5740560"/>
              <a:ext cx="1800" cy="23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 flipV="1">
              <a:off x="7616880" y="5740560"/>
              <a:ext cx="1440" cy="23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 flipV="1">
              <a:off x="7943760" y="5740560"/>
              <a:ext cx="1800" cy="23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 flipV="1">
              <a:off x="8132760" y="5740560"/>
              <a:ext cx="1440" cy="23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 flipV="1">
              <a:off x="8265960" y="5740560"/>
              <a:ext cx="1800" cy="23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 flipV="1">
              <a:off x="8369280" y="5740560"/>
              <a:ext cx="1440" cy="23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 flipV="1">
              <a:off x="8454960" y="5740560"/>
              <a:ext cx="1800" cy="23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 flipV="1">
              <a:off x="8528040" y="5740560"/>
              <a:ext cx="1440" cy="23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 flipV="1">
              <a:off x="8593200" y="5740560"/>
              <a:ext cx="1440" cy="23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 flipV="1">
              <a:off x="8647200" y="5740560"/>
              <a:ext cx="1440" cy="23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 flipV="1">
              <a:off x="8696160" y="5740560"/>
              <a:ext cx="1800" cy="23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 flipV="1">
              <a:off x="5459400" y="5740560"/>
              <a:ext cx="1440" cy="33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 flipV="1">
              <a:off x="6537240" y="5740560"/>
              <a:ext cx="1800" cy="33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 flipV="1">
              <a:off x="7616880" y="5740560"/>
              <a:ext cx="1440" cy="33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 flipV="1">
              <a:off x="8696160" y="5740560"/>
              <a:ext cx="1800" cy="33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 flipV="1">
              <a:off x="5973840" y="4638240"/>
              <a:ext cx="1440" cy="1101960"/>
            </a:xfrm>
            <a:prstGeom prst="line">
              <a:avLst/>
            </a:prstGeom>
            <a:ln w="23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5973840" y="4638600"/>
              <a:ext cx="323640" cy="1800"/>
            </a:xfrm>
            <a:prstGeom prst="line">
              <a:avLst/>
            </a:prstGeom>
            <a:ln w="23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297480" y="4638600"/>
              <a:ext cx="1800" cy="1101960"/>
            </a:xfrm>
            <a:prstGeom prst="line">
              <a:avLst/>
            </a:prstGeom>
            <a:ln w="23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7" name=""/>
          <p:cNvSpPr/>
          <p:nvPr/>
        </p:nvSpPr>
        <p:spPr>
          <a:xfrm>
            <a:off x="6297480" y="5740560"/>
            <a:ext cx="180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 flipV="1">
            <a:off x="6297480" y="4890960"/>
            <a:ext cx="1800" cy="8496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6297480" y="4890960"/>
            <a:ext cx="25884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556320" y="4890960"/>
            <a:ext cx="1800" cy="8496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6556320" y="5740560"/>
            <a:ext cx="180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 flipV="1">
            <a:off x="6556320" y="5420880"/>
            <a:ext cx="1800" cy="31932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6556320" y="5421240"/>
            <a:ext cx="21600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6772320" y="5421240"/>
            <a:ext cx="1440" cy="31932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6772320" y="5740560"/>
            <a:ext cx="144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 flipV="1">
            <a:off x="6772320" y="5673600"/>
            <a:ext cx="1440" cy="6696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6772320" y="5673600"/>
            <a:ext cx="20160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6973920" y="5673600"/>
            <a:ext cx="1440" cy="6696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6973920" y="5740560"/>
            <a:ext cx="144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973920" y="5726160"/>
            <a:ext cx="1440" cy="144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6973920" y="5726160"/>
            <a:ext cx="20484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178760" y="5726160"/>
            <a:ext cx="1440" cy="144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7178760" y="5740560"/>
            <a:ext cx="144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 flipV="1">
            <a:off x="7178760" y="5736960"/>
            <a:ext cx="1440" cy="32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7178760" y="5737320"/>
            <a:ext cx="22536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7404120" y="5737320"/>
            <a:ext cx="1440" cy="32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404120" y="5740560"/>
            <a:ext cx="144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7404120" y="5740560"/>
            <a:ext cx="144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7404120" y="5740560"/>
            <a:ext cx="20628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7610400" y="5740560"/>
            <a:ext cx="180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7610400" y="5740560"/>
            <a:ext cx="180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7610400" y="5740560"/>
            <a:ext cx="180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7610400" y="5740560"/>
            <a:ext cx="22536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7835760" y="5740560"/>
            <a:ext cx="180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7835760" y="5740560"/>
            <a:ext cx="180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7835760" y="5740560"/>
            <a:ext cx="180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7835760" y="5740560"/>
            <a:ext cx="20160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8037360" y="5740560"/>
            <a:ext cx="180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8037360" y="5740560"/>
            <a:ext cx="180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8037360" y="5740560"/>
            <a:ext cx="180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8037360" y="5740560"/>
            <a:ext cx="22572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8263080" y="5740560"/>
            <a:ext cx="144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8263080" y="5740560"/>
            <a:ext cx="144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8263080" y="5740560"/>
            <a:ext cx="144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8263080" y="5740560"/>
            <a:ext cx="24444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8507520" y="5740560"/>
            <a:ext cx="144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8507520" y="5740560"/>
            <a:ext cx="144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8507520" y="5740560"/>
            <a:ext cx="144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8507520" y="5740560"/>
            <a:ext cx="19188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8702640" y="5740560"/>
            <a:ext cx="180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4993920" y="5670720"/>
            <a:ext cx="432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.0E+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4993920" y="5332320"/>
            <a:ext cx="432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.0E+1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4993920" y="4994280"/>
            <a:ext cx="432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4.0E+1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4993920" y="4653000"/>
            <a:ext cx="432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6.0E+1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4993920" y="4316400"/>
            <a:ext cx="432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8.0E+1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4993920" y="3978360"/>
            <a:ext cx="432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.0E+1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5388120" y="5837400"/>
            <a:ext cx="2246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.0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6498000" y="5837400"/>
            <a:ext cx="160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.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7618320" y="5837400"/>
            <a:ext cx="64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8669160" y="5837400"/>
            <a:ext cx="128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6837480" y="6002280"/>
            <a:ext cx="247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Dp [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7135200" y="5992920"/>
            <a:ext cx="73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7206840" y="6002280"/>
            <a:ext cx="156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 rot="16200000">
            <a:off x="4209840" y="4821840"/>
            <a:ext cx="1184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dN/dLogDp  [part/s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664160" y="3736800"/>
            <a:ext cx="109692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6703200" y="3733920"/>
            <a:ext cx="812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Veicolo 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4502160" y="927000"/>
            <a:ext cx="1440" cy="5251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57240" y="3657600"/>
            <a:ext cx="89676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57240" y="1182600"/>
            <a:ext cx="89582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304920" y="1030320"/>
            <a:ext cx="1440" cy="5091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401760" y="1182600"/>
            <a:ext cx="1006200" cy="1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2270880" y="1257480"/>
            <a:ext cx="812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Veicolo 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4621320" y="1265400"/>
            <a:ext cx="83808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6563520" y="1257480"/>
            <a:ext cx="812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Veicolo 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735600" y="622440"/>
            <a:ext cx="22892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62120" y="152280"/>
            <a:ext cx="8088480" cy="1346040"/>
            <a:chOff x="762120" y="152280"/>
            <a:chExt cx="8088480" cy="1346040"/>
          </a:xfrm>
        </p:grpSpPr>
        <p:sp>
          <p:nvSpPr>
            <p:cNvPr id="657" name=""/>
            <p:cNvSpPr/>
            <p:nvPr/>
          </p:nvSpPr>
          <p:spPr>
            <a:xfrm>
              <a:off x="762120" y="152280"/>
              <a:ext cx="66636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 u="sng">
                  <a:solidFill>
                    <a:srgbClr val="000000"/>
                  </a:solidFill>
                  <a:uFillTx/>
                  <a:latin typeface="Arial"/>
                </a:rPr>
                <a:t>Distribuzione dimensionale del particolato in numero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6491520" y="584280"/>
              <a:ext cx="2120040" cy="91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Ciclo:      TI</a:t>
              </a: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                                                                                                                 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493680" y="838080"/>
              <a:ext cx="2356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Gasolio: convenziona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553080" y="838080"/>
            <a:ext cx="1219320" cy="0"/>
          </a:xfrm>
          <a:prstGeom prst="line">
            <a:avLst/>
          </a:prstGeom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a6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"/>
          <p:cNvSpPr/>
          <p:nvPr/>
        </p:nvSpPr>
        <p:spPr>
          <a:xfrm>
            <a:off x="347760" y="3649680"/>
            <a:ext cx="4056120" cy="25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192320" y="4106880"/>
            <a:ext cx="3046320" cy="16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1192320" y="5389560"/>
            <a:ext cx="3046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1192320" y="5068800"/>
            <a:ext cx="30463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1192320" y="4746600"/>
            <a:ext cx="3046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1192320" y="4425840"/>
            <a:ext cx="30463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1192320" y="4106880"/>
            <a:ext cx="3046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2206800" y="4106880"/>
            <a:ext cx="1440" cy="1603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3224160" y="4106880"/>
            <a:ext cx="1800" cy="1603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38640" y="4106880"/>
            <a:ext cx="1440" cy="1603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1192320" y="4106880"/>
            <a:ext cx="3046320" cy="160344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1192320" y="4106880"/>
            <a:ext cx="1440" cy="1603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158840" y="5710320"/>
            <a:ext cx="33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1158840" y="5389560"/>
            <a:ext cx="33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1158840" y="5068800"/>
            <a:ext cx="33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1158840" y="4746600"/>
            <a:ext cx="33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1158840" y="4425840"/>
            <a:ext cx="33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1158840" y="4106880"/>
            <a:ext cx="33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1192320" y="5710320"/>
            <a:ext cx="3046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 flipV="1">
            <a:off x="1192320" y="5710320"/>
            <a:ext cx="144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 flipV="1">
            <a:off x="1496880" y="5710320"/>
            <a:ext cx="180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flipV="1">
            <a:off x="1676520" y="5710320"/>
            <a:ext cx="144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 flipV="1">
            <a:off x="1805040" y="5710320"/>
            <a:ext cx="144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 flipV="1">
            <a:off x="1901880" y="5710320"/>
            <a:ext cx="144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 flipV="1">
            <a:off x="1981080" y="5710320"/>
            <a:ext cx="180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 flipV="1">
            <a:off x="2050920" y="5710320"/>
            <a:ext cx="180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V="1">
            <a:off x="2109960" y="5710320"/>
            <a:ext cx="144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V="1">
            <a:off x="2160720" y="5710320"/>
            <a:ext cx="144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2206800" y="5710320"/>
            <a:ext cx="144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V="1">
            <a:off x="2514600" y="5710320"/>
            <a:ext cx="144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V="1">
            <a:off x="2690640" y="5710320"/>
            <a:ext cx="180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V="1">
            <a:off x="2819520" y="5710320"/>
            <a:ext cx="144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V="1">
            <a:off x="2916360" y="5710320"/>
            <a:ext cx="144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 flipV="1">
            <a:off x="2998800" y="5710320"/>
            <a:ext cx="144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 flipV="1">
            <a:off x="3065400" y="5710320"/>
            <a:ext cx="180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V="1">
            <a:off x="3124080" y="5710320"/>
            <a:ext cx="180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 flipV="1">
            <a:off x="3174840" y="5710320"/>
            <a:ext cx="180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 flipV="1">
            <a:off x="3224160" y="5710320"/>
            <a:ext cx="180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 flipV="1">
            <a:off x="3529080" y="5710320"/>
            <a:ext cx="144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 flipV="1">
            <a:off x="3708360" y="5710320"/>
            <a:ext cx="180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 flipV="1">
            <a:off x="3833640" y="5710320"/>
            <a:ext cx="180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 flipV="1">
            <a:off x="3933720" y="5710320"/>
            <a:ext cx="180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 flipV="1">
            <a:off x="4013280" y="5710320"/>
            <a:ext cx="144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 flipV="1">
            <a:off x="4081320" y="5710320"/>
            <a:ext cx="180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4141800" y="5710320"/>
            <a:ext cx="144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 flipV="1">
            <a:off x="4194000" y="5710320"/>
            <a:ext cx="180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 flipV="1">
            <a:off x="4238640" y="5710320"/>
            <a:ext cx="144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 flipV="1">
            <a:off x="1192320" y="5710320"/>
            <a:ext cx="1440" cy="33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 flipV="1">
            <a:off x="2206800" y="5710320"/>
            <a:ext cx="1440" cy="33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 flipV="1">
            <a:off x="3224160" y="5710320"/>
            <a:ext cx="1800" cy="33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 flipV="1">
            <a:off x="4238640" y="5710320"/>
            <a:ext cx="1440" cy="33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 flipV="1">
            <a:off x="1676520" y="5121360"/>
            <a:ext cx="1440" cy="58896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1676520" y="5121360"/>
            <a:ext cx="30456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1981080" y="5121360"/>
            <a:ext cx="1800" cy="58896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1981080" y="5710320"/>
            <a:ext cx="180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 flipV="1">
            <a:off x="1981080" y="4664160"/>
            <a:ext cx="1800" cy="104616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1981080" y="4664160"/>
            <a:ext cx="24300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224080" y="4664160"/>
            <a:ext cx="1440" cy="104616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224080" y="5710320"/>
            <a:ext cx="144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 flipV="1">
            <a:off x="2224080" y="4950000"/>
            <a:ext cx="1440" cy="76032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224080" y="4950000"/>
            <a:ext cx="20484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428920" y="4950000"/>
            <a:ext cx="1440" cy="76032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28920" y="5710320"/>
            <a:ext cx="144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 flipV="1">
            <a:off x="2428920" y="5482800"/>
            <a:ext cx="1440" cy="22716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2428920" y="5483160"/>
            <a:ext cx="18900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2617920" y="5483160"/>
            <a:ext cx="1440" cy="22716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2617920" y="5710320"/>
            <a:ext cx="144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 flipV="1">
            <a:off x="2617920" y="5654160"/>
            <a:ext cx="1440" cy="55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2617920" y="5654520"/>
            <a:ext cx="19188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2809800" y="5654520"/>
            <a:ext cx="1800" cy="55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2809800" y="5710320"/>
            <a:ext cx="180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 flipV="1">
            <a:off x="2809800" y="5694480"/>
            <a:ext cx="1800" cy="158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2809800" y="5694480"/>
            <a:ext cx="21276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3022560" y="5694480"/>
            <a:ext cx="1800" cy="158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3022560" y="5710320"/>
            <a:ext cx="180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 flipV="1">
            <a:off x="3022560" y="5706720"/>
            <a:ext cx="1800" cy="32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3022560" y="5707080"/>
            <a:ext cx="19548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3218040" y="5707080"/>
            <a:ext cx="1440" cy="32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3218040" y="5710320"/>
            <a:ext cx="144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3218040" y="5710320"/>
            <a:ext cx="144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3218040" y="5710320"/>
            <a:ext cx="21420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3432240" y="5710320"/>
            <a:ext cx="144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3432240" y="5710320"/>
            <a:ext cx="144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3432240" y="5710320"/>
            <a:ext cx="144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3432240" y="5710320"/>
            <a:ext cx="18576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3618000" y="5710320"/>
            <a:ext cx="144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3618000" y="5710320"/>
            <a:ext cx="144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3618000" y="5710320"/>
            <a:ext cx="144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3618000" y="5710320"/>
            <a:ext cx="21276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3830760" y="5710320"/>
            <a:ext cx="144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3830760" y="5710320"/>
            <a:ext cx="144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3830760" y="5710320"/>
            <a:ext cx="144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3830760" y="5710320"/>
            <a:ext cx="22860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4059360" y="5710320"/>
            <a:ext cx="144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4059360" y="5710320"/>
            <a:ext cx="144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4059360" y="5710320"/>
            <a:ext cx="144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4059360" y="5710320"/>
            <a:ext cx="18252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4245120" y="5710320"/>
            <a:ext cx="144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671400" y="5638680"/>
            <a:ext cx="432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.0E+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671400" y="5319720"/>
            <a:ext cx="432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.0E+1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671400" y="4998960"/>
            <a:ext cx="432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.0E+1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671400" y="4676760"/>
            <a:ext cx="432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.0E+1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671400" y="4356000"/>
            <a:ext cx="432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4.0E+1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671400" y="4035600"/>
            <a:ext cx="432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5.0E+1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1078560" y="5807160"/>
            <a:ext cx="2246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.0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2126160" y="5807160"/>
            <a:ext cx="160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.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3193560" y="5807160"/>
            <a:ext cx="64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4174200" y="5807160"/>
            <a:ext cx="128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2475000" y="6008760"/>
            <a:ext cx="247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Dp [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2723760" y="5999040"/>
            <a:ext cx="73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2803320" y="6008760"/>
            <a:ext cx="156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 rot="16200000">
            <a:off x="-55440" y="4834080"/>
            <a:ext cx="1184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dN/dLogDp  [part/s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390600" y="3743280"/>
            <a:ext cx="105084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1197000" y="1555920"/>
            <a:ext cx="3054240" cy="17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1197000" y="2841480"/>
            <a:ext cx="30542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1197000" y="2411280"/>
            <a:ext cx="30542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1197000" y="1984320"/>
            <a:ext cx="30542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1197000" y="1555920"/>
            <a:ext cx="30542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2216160" y="1555920"/>
            <a:ext cx="1440" cy="1712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3233880" y="1555920"/>
            <a:ext cx="1440" cy="1712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4251240" y="1555920"/>
            <a:ext cx="1800" cy="1712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1197000" y="1555920"/>
            <a:ext cx="3054240" cy="171288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1197000" y="1555920"/>
            <a:ext cx="1440" cy="1712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1163520" y="3268800"/>
            <a:ext cx="33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1163520" y="2841480"/>
            <a:ext cx="33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1163520" y="2411280"/>
            <a:ext cx="33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1163520" y="1984320"/>
            <a:ext cx="33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1163520" y="1555920"/>
            <a:ext cx="33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1197000" y="3268800"/>
            <a:ext cx="30542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 flipV="1">
            <a:off x="1197000" y="3268800"/>
            <a:ext cx="144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 flipV="1">
            <a:off x="1504800" y="3268800"/>
            <a:ext cx="180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 flipV="1">
            <a:off x="1682640" y="3268800"/>
            <a:ext cx="180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 flipV="1">
            <a:off x="1809720" y="3268800"/>
            <a:ext cx="144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 flipV="1">
            <a:off x="1908000" y="3268800"/>
            <a:ext cx="180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 flipV="1">
            <a:off x="1990800" y="3268800"/>
            <a:ext cx="144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 flipV="1">
            <a:off x="2057400" y="3268800"/>
            <a:ext cx="144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 flipV="1">
            <a:off x="2117880" y="3268800"/>
            <a:ext cx="144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 flipV="1">
            <a:off x="2170080" y="3268800"/>
            <a:ext cx="180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 flipV="1">
            <a:off x="2216160" y="3268800"/>
            <a:ext cx="144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 flipV="1">
            <a:off x="2523960" y="3268800"/>
            <a:ext cx="180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 flipV="1">
            <a:off x="2700360" y="3268800"/>
            <a:ext cx="144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 flipV="1">
            <a:off x="2828880" y="3268800"/>
            <a:ext cx="180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 flipV="1">
            <a:off x="2925720" y="3268800"/>
            <a:ext cx="180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 flipV="1">
            <a:off x="3008160" y="3268800"/>
            <a:ext cx="180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 flipV="1">
            <a:off x="3075120" y="3268800"/>
            <a:ext cx="144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 flipV="1">
            <a:off x="3137040" y="3268800"/>
            <a:ext cx="144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 flipV="1">
            <a:off x="3187800" y="3268800"/>
            <a:ext cx="144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 flipV="1">
            <a:off x="3233880" y="3268800"/>
            <a:ext cx="144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 flipV="1">
            <a:off x="3541680" y="3268800"/>
            <a:ext cx="180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 flipV="1">
            <a:off x="3718080" y="3268800"/>
            <a:ext cx="144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 flipV="1">
            <a:off x="3846600" y="3268800"/>
            <a:ext cx="144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 flipV="1">
            <a:off x="3943440" y="3268800"/>
            <a:ext cx="144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 flipV="1">
            <a:off x="4025880" y="3268800"/>
            <a:ext cx="144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 flipV="1">
            <a:off x="4092480" y="3268800"/>
            <a:ext cx="180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 flipV="1">
            <a:off x="4154400" y="3268800"/>
            <a:ext cx="180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 flipV="1">
            <a:off x="4205160" y="3268800"/>
            <a:ext cx="180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 flipV="1">
            <a:off x="4251240" y="3268800"/>
            <a:ext cx="180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 flipV="1">
            <a:off x="1197000" y="3268800"/>
            <a:ext cx="1440" cy="33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 flipV="1">
            <a:off x="2216160" y="3268800"/>
            <a:ext cx="1440" cy="33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 flipV="1">
            <a:off x="3233880" y="3268800"/>
            <a:ext cx="1440" cy="33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 flipV="1">
            <a:off x="4251240" y="3268800"/>
            <a:ext cx="1800" cy="33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 flipV="1">
            <a:off x="1682640" y="2738160"/>
            <a:ext cx="1800" cy="53028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1682640" y="2738520"/>
            <a:ext cx="30816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1990800" y="2738520"/>
            <a:ext cx="1440" cy="53028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1990800" y="3268800"/>
            <a:ext cx="144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 flipV="1">
            <a:off x="1990800" y="1972800"/>
            <a:ext cx="1440" cy="12956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1990800" y="1973160"/>
            <a:ext cx="24264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2233440" y="1973160"/>
            <a:ext cx="1800" cy="12956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2233440" y="3268800"/>
            <a:ext cx="180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 flipV="1">
            <a:off x="2233440" y="2152800"/>
            <a:ext cx="1800" cy="11160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2233440" y="2152800"/>
            <a:ext cx="20484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2438280" y="2152800"/>
            <a:ext cx="1800" cy="11160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2438280" y="3268800"/>
            <a:ext cx="180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 flipV="1">
            <a:off x="2438280" y="3026880"/>
            <a:ext cx="1800" cy="24156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2438280" y="3027240"/>
            <a:ext cx="18900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2627280" y="3027240"/>
            <a:ext cx="1800" cy="24156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2627280" y="3268800"/>
            <a:ext cx="180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 flipV="1">
            <a:off x="2627280" y="3234960"/>
            <a:ext cx="1800" cy="3348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2627280" y="3235320"/>
            <a:ext cx="19224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2819520" y="3235320"/>
            <a:ext cx="1440" cy="3348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2819520" y="3268800"/>
            <a:ext cx="144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 flipV="1">
            <a:off x="2819520" y="3255840"/>
            <a:ext cx="1440" cy="1296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2819520" y="3255840"/>
            <a:ext cx="21276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3032280" y="3255840"/>
            <a:ext cx="1440" cy="1296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3032280" y="3268800"/>
            <a:ext cx="144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 flipV="1">
            <a:off x="3032280" y="3265200"/>
            <a:ext cx="1440" cy="32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3032280" y="3265560"/>
            <a:ext cx="19836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3230640" y="3265560"/>
            <a:ext cx="1440" cy="32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3230640" y="3268800"/>
            <a:ext cx="144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3230640" y="3268800"/>
            <a:ext cx="144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3230640" y="3268800"/>
            <a:ext cx="20952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3440160" y="3268800"/>
            <a:ext cx="144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3440160" y="3268800"/>
            <a:ext cx="144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3440160" y="3268800"/>
            <a:ext cx="144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3440160" y="3268800"/>
            <a:ext cx="19044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3630600" y="3268800"/>
            <a:ext cx="144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3630600" y="3268800"/>
            <a:ext cx="144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3630600" y="3268800"/>
            <a:ext cx="144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3630600" y="3268800"/>
            <a:ext cx="21276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3843360" y="3268800"/>
            <a:ext cx="144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3843360" y="3268800"/>
            <a:ext cx="144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3843360" y="3268800"/>
            <a:ext cx="144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3843360" y="3268800"/>
            <a:ext cx="22860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4071960" y="3268800"/>
            <a:ext cx="144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4071960" y="3268800"/>
            <a:ext cx="144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4071960" y="3268800"/>
            <a:ext cx="144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4071960" y="3268800"/>
            <a:ext cx="18252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4257720" y="3268800"/>
            <a:ext cx="144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677880" y="3198960"/>
            <a:ext cx="432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.0E+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677880" y="2771640"/>
            <a:ext cx="432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5.0E+1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677880" y="2341440"/>
            <a:ext cx="432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.0E+1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677880" y="1914480"/>
            <a:ext cx="432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.5E+1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677880" y="1486080"/>
            <a:ext cx="432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.0E+1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1083240" y="3365640"/>
            <a:ext cx="2246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.0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2135520" y="3365640"/>
            <a:ext cx="160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.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3202920" y="3365640"/>
            <a:ext cx="64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4187160" y="3365640"/>
            <a:ext cx="128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2475000" y="3421080"/>
            <a:ext cx="247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Dp [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2723760" y="3411360"/>
            <a:ext cx="73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2803320" y="3421080"/>
            <a:ext cx="156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 rot="16200000">
            <a:off x="-49320" y="2337480"/>
            <a:ext cx="1184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dN/dLogDp  [part/s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4599000" y="1290600"/>
            <a:ext cx="4538520" cy="25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5464080" y="1582560"/>
            <a:ext cx="3121200" cy="170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5464080" y="2944800"/>
            <a:ext cx="31212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5464080" y="2603520"/>
            <a:ext cx="31212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5464080" y="2265480"/>
            <a:ext cx="31212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5464080" y="1924200"/>
            <a:ext cx="31212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5464080" y="1582560"/>
            <a:ext cx="31212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6504120" y="1582560"/>
            <a:ext cx="1440" cy="1703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7545240" y="1582560"/>
            <a:ext cx="1800" cy="1703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8585280" y="1582560"/>
            <a:ext cx="1440" cy="1703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5464080" y="1582560"/>
            <a:ext cx="3121200" cy="170352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5464080" y="1582560"/>
            <a:ext cx="1800" cy="1703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5430960" y="3286080"/>
            <a:ext cx="331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5430960" y="2944800"/>
            <a:ext cx="33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5430960" y="2603520"/>
            <a:ext cx="33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5430960" y="2265480"/>
            <a:ext cx="33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5430960" y="1924200"/>
            <a:ext cx="33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5430960" y="1582560"/>
            <a:ext cx="331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5464080" y="3286080"/>
            <a:ext cx="31212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 flipV="1">
            <a:off x="5464080" y="3285720"/>
            <a:ext cx="180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 flipV="1">
            <a:off x="5778360" y="3285720"/>
            <a:ext cx="180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 flipV="1">
            <a:off x="5961240" y="3285720"/>
            <a:ext cx="144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 flipV="1">
            <a:off x="6093000" y="3285720"/>
            <a:ext cx="144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 flipV="1">
            <a:off x="6192720" y="3285720"/>
            <a:ext cx="180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 flipV="1">
            <a:off x="6275520" y="3285720"/>
            <a:ext cx="144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 flipV="1">
            <a:off x="6342120" y="3285720"/>
            <a:ext cx="144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 flipV="1">
            <a:off x="6404040" y="3285720"/>
            <a:ext cx="144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 flipV="1">
            <a:off x="6458040" y="3285720"/>
            <a:ext cx="144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 flipV="1">
            <a:off x="6504120" y="3285720"/>
            <a:ext cx="144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 flipV="1">
            <a:off x="6818400" y="3285720"/>
            <a:ext cx="144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 flipV="1">
            <a:off x="7000920" y="3285720"/>
            <a:ext cx="144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 flipV="1">
            <a:off x="7130880" y="3285720"/>
            <a:ext cx="180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 flipV="1">
            <a:off x="7232760" y="3285720"/>
            <a:ext cx="144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 flipV="1">
            <a:off x="7315200" y="3285720"/>
            <a:ext cx="144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 flipV="1">
            <a:off x="7385040" y="3285720"/>
            <a:ext cx="144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 flipV="1">
            <a:off x="7445520" y="3285720"/>
            <a:ext cx="144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 flipV="1">
            <a:off x="7497720" y="3285720"/>
            <a:ext cx="180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 flipV="1">
            <a:off x="7545240" y="3285720"/>
            <a:ext cx="180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 flipV="1">
            <a:off x="7856640" y="3285720"/>
            <a:ext cx="144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 flipV="1">
            <a:off x="8042400" y="3285720"/>
            <a:ext cx="144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 flipV="1">
            <a:off x="8170920" y="3285720"/>
            <a:ext cx="144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 flipV="1">
            <a:off x="8271000" y="3285720"/>
            <a:ext cx="144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 flipV="1">
            <a:off x="8353440" y="3285720"/>
            <a:ext cx="144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 flipV="1">
            <a:off x="8423280" y="3285720"/>
            <a:ext cx="144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 flipV="1">
            <a:off x="8485200" y="3285720"/>
            <a:ext cx="144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 flipV="1">
            <a:off x="8535960" y="3285720"/>
            <a:ext cx="144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 flipV="1">
            <a:off x="8585280" y="3285720"/>
            <a:ext cx="144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 flipV="1">
            <a:off x="5464080" y="3285720"/>
            <a:ext cx="180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 flipV="1">
            <a:off x="6504120" y="3285720"/>
            <a:ext cx="144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 flipV="1">
            <a:off x="7545240" y="3285720"/>
            <a:ext cx="180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 flipV="1">
            <a:off x="8585280" y="3285720"/>
            <a:ext cx="144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 flipV="1">
            <a:off x="5961240" y="2304720"/>
            <a:ext cx="1440" cy="9810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961240" y="2305080"/>
            <a:ext cx="31428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75520" y="2305080"/>
            <a:ext cx="1440" cy="9810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6275520" y="3286080"/>
            <a:ext cx="144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 flipV="1">
            <a:off x="6275520" y="2142720"/>
            <a:ext cx="1440" cy="11430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6275520" y="2143080"/>
            <a:ext cx="24588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6521400" y="2143080"/>
            <a:ext cx="1800" cy="11430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6521400" y="3286080"/>
            <a:ext cx="180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 flipV="1">
            <a:off x="6521400" y="2280960"/>
            <a:ext cx="1800" cy="100476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6521400" y="2281320"/>
            <a:ext cx="21132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6732720" y="2281320"/>
            <a:ext cx="1440" cy="100476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6732720" y="3286080"/>
            <a:ext cx="144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 flipV="1">
            <a:off x="6732720" y="2752560"/>
            <a:ext cx="1440" cy="53352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6732720" y="2752560"/>
            <a:ext cx="19512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6927840" y="2752560"/>
            <a:ext cx="1440" cy="53352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6927840" y="3286080"/>
            <a:ext cx="144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flipV="1">
            <a:off x="6927840" y="3133440"/>
            <a:ext cx="1440" cy="15228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6927840" y="3133800"/>
            <a:ext cx="19224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7120080" y="3133800"/>
            <a:ext cx="1440" cy="15228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7120080" y="3286080"/>
            <a:ext cx="144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 flipV="1">
            <a:off x="7120080" y="3255840"/>
            <a:ext cx="1440" cy="302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7120080" y="3255840"/>
            <a:ext cx="21888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7338960" y="3255840"/>
            <a:ext cx="1800" cy="302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7338960" y="3286080"/>
            <a:ext cx="180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 flipV="1">
            <a:off x="7338960" y="3279600"/>
            <a:ext cx="1800" cy="648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7338960" y="3279600"/>
            <a:ext cx="20160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7540560" y="3279600"/>
            <a:ext cx="1800" cy="648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7540560" y="3286080"/>
            <a:ext cx="180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7540560" y="3286080"/>
            <a:ext cx="180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7540560" y="3286080"/>
            <a:ext cx="21600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7756560" y="3286080"/>
            <a:ext cx="144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7756560" y="3286080"/>
            <a:ext cx="144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7756560" y="3286080"/>
            <a:ext cx="144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7756560" y="3286080"/>
            <a:ext cx="19512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7951680" y="3286080"/>
            <a:ext cx="180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7951680" y="3286080"/>
            <a:ext cx="180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7951680" y="3286080"/>
            <a:ext cx="180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7951680" y="3286080"/>
            <a:ext cx="21600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8167680" y="3286080"/>
            <a:ext cx="144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8167680" y="3286080"/>
            <a:ext cx="144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8167680" y="3286080"/>
            <a:ext cx="144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8167680" y="3286080"/>
            <a:ext cx="23508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8402760" y="3286080"/>
            <a:ext cx="144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8402760" y="3286080"/>
            <a:ext cx="144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8402760" y="3286080"/>
            <a:ext cx="144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8402760" y="3286080"/>
            <a:ext cx="18576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8591400" y="3286080"/>
            <a:ext cx="180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944960" y="3216240"/>
            <a:ext cx="432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.0E+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4944960" y="2874960"/>
            <a:ext cx="432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.0E+1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4944960" y="2533680"/>
            <a:ext cx="432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.0E+1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4944960" y="2195640"/>
            <a:ext cx="432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.0E+1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4944960" y="1854360"/>
            <a:ext cx="432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4.0E+1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4944960" y="1512720"/>
            <a:ext cx="432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5.0E+1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5350320" y="3384720"/>
            <a:ext cx="2246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.0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6423480" y="3384720"/>
            <a:ext cx="160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.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7514640" y="3384720"/>
            <a:ext cx="64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8520840" y="3384720"/>
            <a:ext cx="128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6792840" y="3454560"/>
            <a:ext cx="247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Dp [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7043400" y="3444840"/>
            <a:ext cx="73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7122960" y="3454560"/>
            <a:ext cx="156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 rot="16200000">
            <a:off x="4215960" y="2359800"/>
            <a:ext cx="1184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dN/dLogDp  [part/s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4599000" y="3649680"/>
            <a:ext cx="4541760" cy="25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5460840" y="4106880"/>
            <a:ext cx="3146760" cy="15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5460840" y="5380200"/>
            <a:ext cx="3146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5460840" y="5064120"/>
            <a:ext cx="3146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5460840" y="4743360"/>
            <a:ext cx="3146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5460840" y="4425840"/>
            <a:ext cx="3146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5460840" y="4106880"/>
            <a:ext cx="3146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6510240" y="4106880"/>
            <a:ext cx="1800" cy="1593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7558200" y="4106880"/>
            <a:ext cx="1440" cy="1593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8607600" y="4106880"/>
            <a:ext cx="1440" cy="1593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5460840" y="4106880"/>
            <a:ext cx="3146760" cy="159372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5460840" y="4106880"/>
            <a:ext cx="1800" cy="1593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5427720" y="5700600"/>
            <a:ext cx="331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5427720" y="5380200"/>
            <a:ext cx="33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5427720" y="5064120"/>
            <a:ext cx="33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5427720" y="4743360"/>
            <a:ext cx="331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5427720" y="4425840"/>
            <a:ext cx="331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5427720" y="4106880"/>
            <a:ext cx="33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5460840" y="5700600"/>
            <a:ext cx="3146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 flipV="1">
            <a:off x="5460840" y="5700600"/>
            <a:ext cx="180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 flipV="1">
            <a:off x="5778360" y="5700600"/>
            <a:ext cx="180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 flipV="1">
            <a:off x="5961240" y="5700600"/>
            <a:ext cx="144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 flipV="1">
            <a:off x="6093000" y="5700600"/>
            <a:ext cx="144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 flipV="1">
            <a:off x="6192720" y="5700600"/>
            <a:ext cx="180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 flipV="1">
            <a:off x="6278400" y="5700600"/>
            <a:ext cx="180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 flipV="1">
            <a:off x="6348240" y="5700600"/>
            <a:ext cx="180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 flipV="1">
            <a:off x="6408720" y="5700600"/>
            <a:ext cx="144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 flipV="1">
            <a:off x="6461280" y="5700600"/>
            <a:ext cx="144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 flipV="1">
            <a:off x="6510240" y="5700600"/>
            <a:ext cx="180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 flipV="1">
            <a:off x="6826320" y="5700600"/>
            <a:ext cx="144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 flipV="1">
            <a:off x="7010280" y="5700600"/>
            <a:ext cx="180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 flipV="1">
            <a:off x="7140600" y="5700600"/>
            <a:ext cx="144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 flipV="1">
            <a:off x="7242120" y="5700600"/>
            <a:ext cx="180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 flipV="1">
            <a:off x="7326360" y="5700600"/>
            <a:ext cx="144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 flipV="1">
            <a:off x="7396200" y="5700600"/>
            <a:ext cx="144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 flipV="1">
            <a:off x="7458120" y="5700600"/>
            <a:ext cx="144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 flipV="1">
            <a:off x="7508880" y="5700600"/>
            <a:ext cx="144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 flipV="1">
            <a:off x="7558200" y="5700600"/>
            <a:ext cx="144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 flipV="1">
            <a:off x="7875720" y="5700600"/>
            <a:ext cx="144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 flipV="1">
            <a:off x="8058240" y="5700600"/>
            <a:ext cx="144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 flipV="1">
            <a:off x="8190000" y="5700600"/>
            <a:ext cx="144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 flipV="1">
            <a:off x="8290080" y="5700600"/>
            <a:ext cx="144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 flipV="1">
            <a:off x="8375760" y="5700600"/>
            <a:ext cx="144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 flipV="1">
            <a:off x="8445600" y="5700600"/>
            <a:ext cx="144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 flipV="1">
            <a:off x="8505720" y="5700600"/>
            <a:ext cx="180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 flipV="1">
            <a:off x="8558280" y="5700600"/>
            <a:ext cx="144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 flipV="1">
            <a:off x="8607600" y="5700600"/>
            <a:ext cx="144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 flipV="1">
            <a:off x="5460840" y="5700240"/>
            <a:ext cx="180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 flipV="1">
            <a:off x="6510240" y="5700240"/>
            <a:ext cx="180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 flipV="1">
            <a:off x="7558200" y="5700240"/>
            <a:ext cx="144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 flipV="1">
            <a:off x="8607600" y="5700240"/>
            <a:ext cx="144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 flipV="1">
            <a:off x="5961240" y="4517640"/>
            <a:ext cx="1440" cy="11826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5961240" y="4518000"/>
            <a:ext cx="31716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6278400" y="4518000"/>
            <a:ext cx="1800" cy="11826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6278400" y="5700600"/>
            <a:ext cx="180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 flipV="1">
            <a:off x="6278400" y="4530600"/>
            <a:ext cx="1800" cy="11700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6278400" y="4530600"/>
            <a:ext cx="24948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6527880" y="4530600"/>
            <a:ext cx="1440" cy="11700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6527880" y="5700600"/>
            <a:ext cx="144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 flipV="1">
            <a:off x="6527880" y="5249880"/>
            <a:ext cx="1440" cy="45072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6527880" y="5249880"/>
            <a:ext cx="21096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6738840" y="5249880"/>
            <a:ext cx="1800" cy="45072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6738840" y="5700600"/>
            <a:ext cx="180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 flipV="1">
            <a:off x="6738840" y="5608440"/>
            <a:ext cx="1800" cy="9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6738840" y="5608800"/>
            <a:ext cx="19548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6934320" y="5608800"/>
            <a:ext cx="1440" cy="9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6934320" y="5700600"/>
            <a:ext cx="144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 flipV="1">
            <a:off x="6934320" y="5681160"/>
            <a:ext cx="1440" cy="1908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6934320" y="5681520"/>
            <a:ext cx="19656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7130880" y="5681520"/>
            <a:ext cx="1800" cy="1908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7130880" y="5700600"/>
            <a:ext cx="180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 flipV="1">
            <a:off x="7130880" y="5694120"/>
            <a:ext cx="1800" cy="612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7130880" y="5694480"/>
            <a:ext cx="22068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7351560" y="5694480"/>
            <a:ext cx="1800" cy="612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7351560" y="5700600"/>
            <a:ext cx="180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 flipV="1">
            <a:off x="7351560" y="5697000"/>
            <a:ext cx="1800" cy="32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7351560" y="5697360"/>
            <a:ext cx="20016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7551720" y="5697360"/>
            <a:ext cx="1440" cy="32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7551720" y="5700600"/>
            <a:ext cx="144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7551720" y="5700600"/>
            <a:ext cx="144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7551720" y="5700600"/>
            <a:ext cx="22068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7772400" y="5700600"/>
            <a:ext cx="144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7772400" y="5700600"/>
            <a:ext cx="144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7772400" y="5700600"/>
            <a:ext cx="144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7772400" y="5700600"/>
            <a:ext cx="19368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7966080" y="5700600"/>
            <a:ext cx="144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7966080" y="5700600"/>
            <a:ext cx="144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7966080" y="5700600"/>
            <a:ext cx="144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7966080" y="5700600"/>
            <a:ext cx="22068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8186760" y="5700600"/>
            <a:ext cx="144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8186760" y="5700600"/>
            <a:ext cx="144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8186760" y="5700600"/>
            <a:ext cx="144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8186760" y="5700600"/>
            <a:ext cx="23328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8420040" y="5700600"/>
            <a:ext cx="180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8420040" y="5700600"/>
            <a:ext cx="180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8420040" y="5700600"/>
            <a:ext cx="180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8420040" y="5700600"/>
            <a:ext cx="19044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8612280" y="5700600"/>
            <a:ext cx="144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4995720" y="5630760"/>
            <a:ext cx="432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.0E+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4995720" y="5310360"/>
            <a:ext cx="432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.0E+1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4995720" y="4992840"/>
            <a:ext cx="432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4.0E+1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4995720" y="4673520"/>
            <a:ext cx="432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6.0E+1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4995720" y="4356000"/>
            <a:ext cx="432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8.0E+1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4995720" y="4035600"/>
            <a:ext cx="432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.0E+1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5388120" y="5797440"/>
            <a:ext cx="2246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.0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6467760" y="5797440"/>
            <a:ext cx="160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.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7559640" y="5797440"/>
            <a:ext cx="64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8577000" y="5797440"/>
            <a:ext cx="128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6792840" y="6008760"/>
            <a:ext cx="247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Dp [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7093440" y="5999040"/>
            <a:ext cx="73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7162200" y="6008760"/>
            <a:ext cx="156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 rot="16200000">
            <a:off x="4213080" y="4829760"/>
            <a:ext cx="1184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dN/dLogDp  [part/s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4648320" y="3765600"/>
            <a:ext cx="1050840" cy="1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4546440" y="917640"/>
            <a:ext cx="1800" cy="527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60480" y="3654360"/>
            <a:ext cx="90309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60480" y="1125360"/>
            <a:ext cx="8972280" cy="6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295200" y="1003320"/>
            <a:ext cx="1800" cy="512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420840" y="1238400"/>
            <a:ext cx="10429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4797360" y="1238400"/>
            <a:ext cx="10414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6799320" y="631800"/>
            <a:ext cx="2289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609480" y="152280"/>
            <a:ext cx="71629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Distribuzione dimensionale del particolato in numero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6375240" y="584280"/>
            <a:ext cx="2133720" cy="9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iclo:      ECE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6377760" y="838080"/>
            <a:ext cx="2356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Gasolio: convenziona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6400800" y="838080"/>
            <a:ext cx="1447920" cy="0"/>
          </a:xfrm>
          <a:prstGeom prst="line">
            <a:avLst/>
          </a:prstGeom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2321640" y="3759120"/>
            <a:ext cx="812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Veicolo 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6703200" y="3733920"/>
            <a:ext cx="812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Veicolo 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2270880" y="1257480"/>
            <a:ext cx="812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Veicolo 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6563520" y="1257480"/>
            <a:ext cx="812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Veicolo 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a6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"/>
          <p:cNvSpPr/>
          <p:nvPr/>
        </p:nvSpPr>
        <p:spPr>
          <a:xfrm>
            <a:off x="343080" y="3648240"/>
            <a:ext cx="4038480" cy="25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1155600" y="4059360"/>
            <a:ext cx="3090960" cy="179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1155600" y="5492880"/>
            <a:ext cx="30909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1155600" y="5133960"/>
            <a:ext cx="30909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1155600" y="4775040"/>
            <a:ext cx="30909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1155600" y="4416480"/>
            <a:ext cx="30909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1155600" y="4059360"/>
            <a:ext cx="30909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2185920" y="4059360"/>
            <a:ext cx="1800" cy="1790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3218040" y="4059360"/>
            <a:ext cx="1440" cy="1790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4246560" y="4059360"/>
            <a:ext cx="1440" cy="1790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1155600" y="4059360"/>
            <a:ext cx="3090960" cy="179064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1155600" y="4059360"/>
            <a:ext cx="1800" cy="1790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1122480" y="5850000"/>
            <a:ext cx="33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1122480" y="5492880"/>
            <a:ext cx="33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1122480" y="5133960"/>
            <a:ext cx="33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1122480" y="4775040"/>
            <a:ext cx="331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1122480" y="4416480"/>
            <a:ext cx="33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1122480" y="4059360"/>
            <a:ext cx="33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1155600" y="5850000"/>
            <a:ext cx="30909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 flipV="1">
            <a:off x="1155600" y="5850000"/>
            <a:ext cx="1800" cy="25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 flipV="1">
            <a:off x="1465200" y="5850000"/>
            <a:ext cx="1800" cy="25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 flipV="1">
            <a:off x="1647720" y="5850000"/>
            <a:ext cx="1800" cy="25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 flipV="1">
            <a:off x="1776240" y="5850000"/>
            <a:ext cx="1800" cy="25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 flipV="1">
            <a:off x="1876320" y="5850000"/>
            <a:ext cx="1800" cy="25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 flipV="1">
            <a:off x="1959120" y="5850000"/>
            <a:ext cx="1440" cy="25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 flipV="1">
            <a:off x="2027160" y="5850000"/>
            <a:ext cx="1800" cy="25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 flipV="1">
            <a:off x="2085840" y="5850000"/>
            <a:ext cx="1800" cy="25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 flipV="1">
            <a:off x="2138400" y="5850000"/>
            <a:ext cx="1440" cy="25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 flipV="1">
            <a:off x="2185920" y="5850000"/>
            <a:ext cx="1800" cy="25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 flipV="1">
            <a:off x="2496960" y="5850000"/>
            <a:ext cx="1800" cy="25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 flipV="1">
            <a:off x="2678040" y="5850000"/>
            <a:ext cx="1800" cy="25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 flipV="1">
            <a:off x="2806560" y="5850000"/>
            <a:ext cx="1800" cy="25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 flipV="1">
            <a:off x="2906640" y="5850000"/>
            <a:ext cx="1800" cy="25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 flipV="1">
            <a:off x="2987640" y="5850000"/>
            <a:ext cx="1800" cy="25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 flipV="1">
            <a:off x="3056040" y="5850000"/>
            <a:ext cx="1440" cy="25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 flipV="1">
            <a:off x="3117960" y="5850000"/>
            <a:ext cx="1440" cy="25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 flipV="1">
            <a:off x="3170160" y="5850000"/>
            <a:ext cx="1800" cy="25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 flipV="1">
            <a:off x="3218040" y="5850000"/>
            <a:ext cx="1440" cy="25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 flipV="1">
            <a:off x="3527280" y="5850000"/>
            <a:ext cx="1800" cy="25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 flipV="1">
            <a:off x="3708360" y="5850000"/>
            <a:ext cx="1800" cy="25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 flipV="1">
            <a:off x="3836880" y="5850000"/>
            <a:ext cx="1800" cy="25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 flipV="1">
            <a:off x="3938760" y="5850000"/>
            <a:ext cx="1440" cy="25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 flipV="1">
            <a:off x="4017960" y="5850000"/>
            <a:ext cx="1440" cy="25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 flipV="1">
            <a:off x="4087800" y="5850000"/>
            <a:ext cx="1440" cy="25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 flipV="1">
            <a:off x="4146480" y="5850000"/>
            <a:ext cx="1800" cy="25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 flipV="1">
            <a:off x="4200480" y="5850000"/>
            <a:ext cx="1800" cy="25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 flipV="1">
            <a:off x="4246560" y="5850000"/>
            <a:ext cx="1440" cy="25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 flipV="1">
            <a:off x="1155600" y="5850000"/>
            <a:ext cx="1800" cy="33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 flipV="1">
            <a:off x="2185920" y="5850000"/>
            <a:ext cx="1800" cy="33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 flipV="1">
            <a:off x="3218040" y="5850000"/>
            <a:ext cx="1440" cy="33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 flipV="1">
            <a:off x="4246560" y="5850000"/>
            <a:ext cx="1440" cy="33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 flipV="1">
            <a:off x="1647720" y="5273280"/>
            <a:ext cx="1800" cy="57636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1647720" y="5273640"/>
            <a:ext cx="31140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1959120" y="5273640"/>
            <a:ext cx="1440" cy="57636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1959120" y="5850000"/>
            <a:ext cx="144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 flipV="1">
            <a:off x="1959120" y="4667040"/>
            <a:ext cx="1440" cy="11826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1959120" y="4667400"/>
            <a:ext cx="24444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2203560" y="4667400"/>
            <a:ext cx="1440" cy="11826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2203560" y="5850000"/>
            <a:ext cx="144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 flipV="1">
            <a:off x="2203560" y="4684320"/>
            <a:ext cx="1440" cy="116532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2203560" y="4684680"/>
            <a:ext cx="20628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2409840" y="4684680"/>
            <a:ext cx="1440" cy="116532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2409840" y="5850000"/>
            <a:ext cx="144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 flipV="1">
            <a:off x="2409840" y="5440320"/>
            <a:ext cx="1440" cy="40968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2409840" y="5440320"/>
            <a:ext cx="19368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2603520" y="5440320"/>
            <a:ext cx="1440" cy="40968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2603520" y="5850000"/>
            <a:ext cx="144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 flipV="1">
            <a:off x="2603520" y="5746320"/>
            <a:ext cx="1440" cy="10332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2603520" y="5746680"/>
            <a:ext cx="19368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2797200" y="5746680"/>
            <a:ext cx="1440" cy="10332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2797200" y="5850000"/>
            <a:ext cx="144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 flipV="1">
            <a:off x="2797200" y="5824080"/>
            <a:ext cx="1440" cy="2556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2797200" y="5824440"/>
            <a:ext cx="21744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3014640" y="5824440"/>
            <a:ext cx="1440" cy="2556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3014640" y="5850000"/>
            <a:ext cx="144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 flipV="1">
            <a:off x="3014640" y="5844960"/>
            <a:ext cx="1440" cy="468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3014640" y="5845320"/>
            <a:ext cx="19836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3213000" y="5845320"/>
            <a:ext cx="1800" cy="468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3213000" y="5850000"/>
            <a:ext cx="180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 flipV="1">
            <a:off x="3213000" y="5847840"/>
            <a:ext cx="180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3213000" y="5848200"/>
            <a:ext cx="21456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3427560" y="5848200"/>
            <a:ext cx="144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3427560" y="5850000"/>
            <a:ext cx="144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3427560" y="5850000"/>
            <a:ext cx="144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3427560" y="5850000"/>
            <a:ext cx="19044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3618000" y="5850000"/>
            <a:ext cx="144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3618000" y="5850000"/>
            <a:ext cx="144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3618000" y="5850000"/>
            <a:ext cx="144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3618000" y="5850000"/>
            <a:ext cx="21564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3833640" y="5850000"/>
            <a:ext cx="180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3833640" y="5850000"/>
            <a:ext cx="180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3833640" y="5850000"/>
            <a:ext cx="180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3833640" y="5850000"/>
            <a:ext cx="23364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4067280" y="5850000"/>
            <a:ext cx="144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4067280" y="5850000"/>
            <a:ext cx="144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4067280" y="5850000"/>
            <a:ext cx="144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4067280" y="5850000"/>
            <a:ext cx="18072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4253040" y="5850000"/>
            <a:ext cx="144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652320" y="5783400"/>
            <a:ext cx="432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,0E+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652320" y="5425920"/>
            <a:ext cx="432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,0E+1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652320" y="5065560"/>
            <a:ext cx="432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4,0E+1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652320" y="4708440"/>
            <a:ext cx="432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6,0E+1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652320" y="4349880"/>
            <a:ext cx="432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8,0E+1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652320" y="3992400"/>
            <a:ext cx="432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,0E+1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1046520" y="5943600"/>
            <a:ext cx="2246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,0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2107080" y="5943600"/>
            <a:ext cx="160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,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3187080" y="5943600"/>
            <a:ext cx="64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4183920" y="5943600"/>
            <a:ext cx="128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2467080" y="6013440"/>
            <a:ext cx="247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Dp [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2711160" y="6004080"/>
            <a:ext cx="73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2781000" y="6013440"/>
            <a:ext cx="156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 rot="16200000">
            <a:off x="-69840" y="4852080"/>
            <a:ext cx="1184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dN/dLogDp  [part/s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395280" y="3741840"/>
            <a:ext cx="1022400" cy="1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1154160" y="1596960"/>
            <a:ext cx="3092400" cy="17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1154160" y="3021120"/>
            <a:ext cx="3092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1154160" y="2736720"/>
            <a:ext cx="30924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1154160" y="2451240"/>
            <a:ext cx="3092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1154160" y="2165400"/>
            <a:ext cx="3092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1154160" y="1881360"/>
            <a:ext cx="3092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1154160" y="1596960"/>
            <a:ext cx="30924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2185920" y="1596960"/>
            <a:ext cx="1800" cy="1708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3216240" y="1596960"/>
            <a:ext cx="1800" cy="1708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4246560" y="1596960"/>
            <a:ext cx="1440" cy="1708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1154160" y="1596960"/>
            <a:ext cx="3092400" cy="170820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1154160" y="1596960"/>
            <a:ext cx="1440" cy="1708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1120680" y="3305160"/>
            <a:ext cx="33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1120680" y="3021120"/>
            <a:ext cx="33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1120680" y="2736720"/>
            <a:ext cx="33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1120680" y="2451240"/>
            <a:ext cx="33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1120680" y="2165400"/>
            <a:ext cx="33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1120680" y="1881360"/>
            <a:ext cx="33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1120680" y="1596960"/>
            <a:ext cx="33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1154160" y="3305160"/>
            <a:ext cx="3092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 flipV="1">
            <a:off x="1154160" y="3304800"/>
            <a:ext cx="1440" cy="27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 flipV="1">
            <a:off x="1465200" y="3304800"/>
            <a:ext cx="1800" cy="27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 flipV="1">
            <a:off x="1646280" y="3304800"/>
            <a:ext cx="1440" cy="27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 flipV="1">
            <a:off x="1774800" y="3304800"/>
            <a:ext cx="1440" cy="27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 flipV="1">
            <a:off x="1874880" y="3304800"/>
            <a:ext cx="1440" cy="27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 flipV="1">
            <a:off x="1957320" y="3304800"/>
            <a:ext cx="1800" cy="27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 flipV="1">
            <a:off x="2025720" y="3304800"/>
            <a:ext cx="1440" cy="27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 flipV="1">
            <a:off x="2085840" y="3304800"/>
            <a:ext cx="1800" cy="27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 flipV="1">
            <a:off x="2138400" y="3304800"/>
            <a:ext cx="1440" cy="27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 flipV="1">
            <a:off x="2185920" y="3304800"/>
            <a:ext cx="1800" cy="27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 flipV="1">
            <a:off x="2495520" y="3304800"/>
            <a:ext cx="1440" cy="27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 flipV="1">
            <a:off x="2678040" y="3304800"/>
            <a:ext cx="1800" cy="27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 flipV="1">
            <a:off x="2806560" y="3304800"/>
            <a:ext cx="1800" cy="27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 flipV="1">
            <a:off x="2906640" y="3304800"/>
            <a:ext cx="1800" cy="27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 flipV="1">
            <a:off x="2987640" y="3304800"/>
            <a:ext cx="1800" cy="27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 flipV="1">
            <a:off x="3056040" y="3304800"/>
            <a:ext cx="1440" cy="27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 flipV="1">
            <a:off x="3116160" y="3304800"/>
            <a:ext cx="1800" cy="27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 flipV="1">
            <a:off x="3168720" y="3304800"/>
            <a:ext cx="1440" cy="27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 flipV="1">
            <a:off x="3216240" y="3304800"/>
            <a:ext cx="1800" cy="27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 flipV="1">
            <a:off x="3527280" y="3304800"/>
            <a:ext cx="1800" cy="27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 flipV="1">
            <a:off x="3708360" y="3304800"/>
            <a:ext cx="1800" cy="27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 flipV="1">
            <a:off x="3836880" y="3304800"/>
            <a:ext cx="1800" cy="27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 flipV="1">
            <a:off x="3936960" y="3304800"/>
            <a:ext cx="1800" cy="27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 flipV="1">
            <a:off x="4017960" y="3304800"/>
            <a:ext cx="1440" cy="27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 flipV="1">
            <a:off x="4087800" y="3304800"/>
            <a:ext cx="1440" cy="27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 flipV="1">
            <a:off x="4146480" y="3304800"/>
            <a:ext cx="1800" cy="27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 flipV="1">
            <a:off x="4200480" y="3304800"/>
            <a:ext cx="1800" cy="27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 flipV="1">
            <a:off x="4246560" y="3304800"/>
            <a:ext cx="1440" cy="27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 flipV="1">
            <a:off x="1154160" y="3304800"/>
            <a:ext cx="144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 flipV="1">
            <a:off x="2185920" y="3304800"/>
            <a:ext cx="180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 flipV="1">
            <a:off x="3216240" y="3304800"/>
            <a:ext cx="180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 flipV="1">
            <a:off x="4246560" y="3304800"/>
            <a:ext cx="144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 flipV="1">
            <a:off x="1646280" y="2801880"/>
            <a:ext cx="1440" cy="50328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1646280" y="2801880"/>
            <a:ext cx="31104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1957320" y="2801880"/>
            <a:ext cx="1800" cy="50328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1957320" y="3305160"/>
            <a:ext cx="180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 flipV="1">
            <a:off x="1957320" y="2153880"/>
            <a:ext cx="1800" cy="115092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1957320" y="2154240"/>
            <a:ext cx="24444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2201760" y="2154240"/>
            <a:ext cx="1800" cy="115092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2201760" y="3305160"/>
            <a:ext cx="180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 flipV="1">
            <a:off x="2201760" y="1901880"/>
            <a:ext cx="1800" cy="140328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2201760" y="1901880"/>
            <a:ext cx="20664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2408400" y="1901880"/>
            <a:ext cx="1440" cy="140328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2408400" y="3305160"/>
            <a:ext cx="144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 flipV="1">
            <a:off x="2408400" y="2855880"/>
            <a:ext cx="1440" cy="44928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2408400" y="2855880"/>
            <a:ext cx="19512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2603520" y="2855880"/>
            <a:ext cx="1440" cy="44928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2603520" y="3305160"/>
            <a:ext cx="144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 flipV="1">
            <a:off x="2603520" y="3233880"/>
            <a:ext cx="1440" cy="7128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2603520" y="3233880"/>
            <a:ext cx="19224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2795760" y="3233880"/>
            <a:ext cx="1440" cy="7128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2795760" y="3305160"/>
            <a:ext cx="144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 flipV="1">
            <a:off x="2795760" y="3281400"/>
            <a:ext cx="1440" cy="2376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2795760" y="3281400"/>
            <a:ext cx="21744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3013200" y="3281400"/>
            <a:ext cx="1440" cy="2376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3013200" y="3305160"/>
            <a:ext cx="144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 flipV="1">
            <a:off x="3013200" y="3297240"/>
            <a:ext cx="1440" cy="792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3013200" y="3297240"/>
            <a:ext cx="19836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3211560" y="3297240"/>
            <a:ext cx="1440" cy="792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>
            <a:off x="3211560" y="3305160"/>
            <a:ext cx="144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 flipV="1">
            <a:off x="3211560" y="3303720"/>
            <a:ext cx="144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3211560" y="3303720"/>
            <a:ext cx="21600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3427560" y="3303720"/>
            <a:ext cx="144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3427560" y="3305160"/>
            <a:ext cx="144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3427560" y="3305160"/>
            <a:ext cx="144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3427560" y="3305160"/>
            <a:ext cx="19044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3618000" y="3305160"/>
            <a:ext cx="144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3618000" y="3305160"/>
            <a:ext cx="144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3618000" y="3305160"/>
            <a:ext cx="144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3618000" y="3305160"/>
            <a:ext cx="21564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3833640" y="3305160"/>
            <a:ext cx="180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3833640" y="3305160"/>
            <a:ext cx="180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3833640" y="3305160"/>
            <a:ext cx="180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3833640" y="3305160"/>
            <a:ext cx="23184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4065480" y="3305160"/>
            <a:ext cx="180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4065480" y="3305160"/>
            <a:ext cx="180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4065480" y="3305160"/>
            <a:ext cx="180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4065480" y="3305160"/>
            <a:ext cx="18252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4253040" y="3305160"/>
            <a:ext cx="144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650880" y="3238560"/>
            <a:ext cx="432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,0E+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650880" y="2954160"/>
            <a:ext cx="432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5,0E+1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650880" y="2670120"/>
            <a:ext cx="432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,0E+1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650880" y="2384280"/>
            <a:ext cx="432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,5E+1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650880" y="2098800"/>
            <a:ext cx="432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,0E+1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650880" y="1814400"/>
            <a:ext cx="432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,5E+1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650880" y="1530360"/>
            <a:ext cx="432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,0E+1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1045080" y="3400560"/>
            <a:ext cx="2246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,0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2107080" y="3400560"/>
            <a:ext cx="160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,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3185640" y="3400560"/>
            <a:ext cx="64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4183920" y="3400560"/>
            <a:ext cx="128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2455920" y="3446640"/>
            <a:ext cx="247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Dp [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2701440" y="3438360"/>
            <a:ext cx="73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2771640" y="3446640"/>
            <a:ext cx="156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 rot="16200000">
            <a:off x="-71280" y="2348640"/>
            <a:ext cx="1184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dN/dLogDp  [part/s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4578480" y="1292400"/>
            <a:ext cx="4516200" cy="25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>
            <a:off x="5405400" y="1577880"/>
            <a:ext cx="3119400" cy="17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>
            <a:off x="5405400" y="2944800"/>
            <a:ext cx="3119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>
            <a:off x="5405400" y="2602080"/>
            <a:ext cx="3119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5405400" y="2262240"/>
            <a:ext cx="3119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5405400" y="1919160"/>
            <a:ext cx="31194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5405400" y="1577880"/>
            <a:ext cx="31194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>
            <a:off x="6445080" y="1577880"/>
            <a:ext cx="1800" cy="1708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>
            <a:off x="7486560" y="1577880"/>
            <a:ext cx="1800" cy="1708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8524800" y="1577880"/>
            <a:ext cx="1800" cy="1708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5405400" y="1577880"/>
            <a:ext cx="3119400" cy="170820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>
            <a:off x="5405400" y="1577880"/>
            <a:ext cx="1800" cy="1708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5372280" y="3286080"/>
            <a:ext cx="331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5372280" y="2944800"/>
            <a:ext cx="33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5372280" y="2602080"/>
            <a:ext cx="33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5372280" y="2262240"/>
            <a:ext cx="33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5372280" y="1919160"/>
            <a:ext cx="331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5372280" y="1577880"/>
            <a:ext cx="331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5405400" y="3286080"/>
            <a:ext cx="31194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 flipV="1">
            <a:off x="5405400" y="3285720"/>
            <a:ext cx="180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 flipV="1">
            <a:off x="5718240" y="3285720"/>
            <a:ext cx="144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 flipV="1">
            <a:off x="5902200" y="3285720"/>
            <a:ext cx="180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 flipV="1">
            <a:off x="6032520" y="3285720"/>
            <a:ext cx="144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 flipV="1">
            <a:off x="6132600" y="3285720"/>
            <a:ext cx="144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 flipV="1">
            <a:off x="6215040" y="3285720"/>
            <a:ext cx="144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 flipV="1">
            <a:off x="6284880" y="3285720"/>
            <a:ext cx="180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 flipV="1">
            <a:off x="6345360" y="3285720"/>
            <a:ext cx="144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 flipV="1">
            <a:off x="6397560" y="3285720"/>
            <a:ext cx="180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 flipV="1">
            <a:off x="6445080" y="3285720"/>
            <a:ext cx="180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 flipV="1">
            <a:off x="6759720" y="3285720"/>
            <a:ext cx="144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 flipV="1">
            <a:off x="6940440" y="3285720"/>
            <a:ext cx="180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 flipV="1">
            <a:off x="7072200" y="3285720"/>
            <a:ext cx="180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 flipV="1">
            <a:off x="7172280" y="3285720"/>
            <a:ext cx="180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 flipV="1">
            <a:off x="7254720" y="3285720"/>
            <a:ext cx="180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 flipV="1">
            <a:off x="7324560" y="3285720"/>
            <a:ext cx="180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 flipV="1">
            <a:off x="7385040" y="3285720"/>
            <a:ext cx="144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"/>
          <p:cNvSpPr/>
          <p:nvPr/>
        </p:nvSpPr>
        <p:spPr>
          <a:xfrm flipV="1">
            <a:off x="7437600" y="3285720"/>
            <a:ext cx="144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 flipV="1">
            <a:off x="7486560" y="3285720"/>
            <a:ext cx="180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 flipV="1">
            <a:off x="7797960" y="3285720"/>
            <a:ext cx="144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 flipV="1">
            <a:off x="7981920" y="3285720"/>
            <a:ext cx="144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 flipV="1">
            <a:off x="8110440" y="3285720"/>
            <a:ext cx="180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 flipV="1">
            <a:off x="8211960" y="3285720"/>
            <a:ext cx="180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 flipV="1">
            <a:off x="8294760" y="3285720"/>
            <a:ext cx="144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 flipV="1">
            <a:off x="8364600" y="3285720"/>
            <a:ext cx="144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"/>
          <p:cNvSpPr/>
          <p:nvPr/>
        </p:nvSpPr>
        <p:spPr>
          <a:xfrm flipV="1">
            <a:off x="8424720" y="3285720"/>
            <a:ext cx="180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 flipV="1">
            <a:off x="8477280" y="3285720"/>
            <a:ext cx="144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"/>
          <p:cNvSpPr/>
          <p:nvPr/>
        </p:nvSpPr>
        <p:spPr>
          <a:xfrm flipV="1">
            <a:off x="8524800" y="3285720"/>
            <a:ext cx="180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 flipV="1">
            <a:off x="5405400" y="3285720"/>
            <a:ext cx="180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 flipV="1">
            <a:off x="6445080" y="3285720"/>
            <a:ext cx="180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 flipV="1">
            <a:off x="7486560" y="3285720"/>
            <a:ext cx="180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 flipV="1">
            <a:off x="8524800" y="3285720"/>
            <a:ext cx="180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 flipV="1">
            <a:off x="5902200" y="2814480"/>
            <a:ext cx="1800" cy="4716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>
            <a:off x="5902200" y="2814480"/>
            <a:ext cx="31284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6215040" y="2814480"/>
            <a:ext cx="1440" cy="4716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6215040" y="3286080"/>
            <a:ext cx="144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 flipV="1">
            <a:off x="6215040" y="2274480"/>
            <a:ext cx="1440" cy="10112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>
            <a:off x="6215040" y="2274840"/>
            <a:ext cx="24768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>
            <a:off x="6462720" y="2274840"/>
            <a:ext cx="1440" cy="10112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>
            <a:off x="6462720" y="3286080"/>
            <a:ext cx="144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 flipV="1">
            <a:off x="6462720" y="1848960"/>
            <a:ext cx="1440" cy="143676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6462720" y="1849320"/>
            <a:ext cx="20808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>
            <a:off x="6670800" y="1849320"/>
            <a:ext cx="1440" cy="143676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"/>
          <p:cNvSpPr/>
          <p:nvPr/>
        </p:nvSpPr>
        <p:spPr>
          <a:xfrm>
            <a:off x="6670800" y="3286080"/>
            <a:ext cx="144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 flipV="1">
            <a:off x="6670800" y="2190240"/>
            <a:ext cx="1440" cy="109548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>
            <a:off x="6670800" y="2190600"/>
            <a:ext cx="19656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>
            <a:off x="6867360" y="2190600"/>
            <a:ext cx="1800" cy="109548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"/>
          <p:cNvSpPr/>
          <p:nvPr/>
        </p:nvSpPr>
        <p:spPr>
          <a:xfrm>
            <a:off x="6867360" y="3286080"/>
            <a:ext cx="180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 flipV="1">
            <a:off x="6867360" y="2908080"/>
            <a:ext cx="1800" cy="3776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>
            <a:off x="6867360" y="2908440"/>
            <a:ext cx="19368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"/>
          <p:cNvSpPr/>
          <p:nvPr/>
        </p:nvSpPr>
        <p:spPr>
          <a:xfrm>
            <a:off x="7061040" y="2908440"/>
            <a:ext cx="1800" cy="3776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"/>
          <p:cNvSpPr/>
          <p:nvPr/>
        </p:nvSpPr>
        <p:spPr>
          <a:xfrm>
            <a:off x="7061040" y="3286080"/>
            <a:ext cx="180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"/>
          <p:cNvSpPr/>
          <p:nvPr/>
        </p:nvSpPr>
        <p:spPr>
          <a:xfrm flipV="1">
            <a:off x="7061040" y="3206880"/>
            <a:ext cx="1800" cy="792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>
            <a:off x="7061040" y="3206880"/>
            <a:ext cx="22068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>
            <a:off x="7281720" y="3206880"/>
            <a:ext cx="1800" cy="792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"/>
          <p:cNvSpPr/>
          <p:nvPr/>
        </p:nvSpPr>
        <p:spPr>
          <a:xfrm>
            <a:off x="7281720" y="3286080"/>
            <a:ext cx="180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"/>
          <p:cNvSpPr/>
          <p:nvPr/>
        </p:nvSpPr>
        <p:spPr>
          <a:xfrm flipV="1">
            <a:off x="7281720" y="3273120"/>
            <a:ext cx="1800" cy="126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"/>
          <p:cNvSpPr/>
          <p:nvPr/>
        </p:nvSpPr>
        <p:spPr>
          <a:xfrm>
            <a:off x="7281720" y="3273480"/>
            <a:ext cx="20016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"/>
          <p:cNvSpPr/>
          <p:nvPr/>
        </p:nvSpPr>
        <p:spPr>
          <a:xfrm>
            <a:off x="7481880" y="3273480"/>
            <a:ext cx="1440" cy="126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>
            <a:off x="7481880" y="3286080"/>
            <a:ext cx="144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 flipV="1">
            <a:off x="7481880" y="3284640"/>
            <a:ext cx="144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>
            <a:off x="7481880" y="3284640"/>
            <a:ext cx="21600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>
            <a:off x="7697880" y="3284640"/>
            <a:ext cx="144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"/>
          <p:cNvSpPr/>
          <p:nvPr/>
        </p:nvSpPr>
        <p:spPr>
          <a:xfrm>
            <a:off x="7697880" y="3286080"/>
            <a:ext cx="144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>
            <a:off x="7697880" y="3286080"/>
            <a:ext cx="144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7697880" y="3286080"/>
            <a:ext cx="19188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>
            <a:off x="7889760" y="3286080"/>
            <a:ext cx="180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>
            <a:off x="7889760" y="3286080"/>
            <a:ext cx="180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>
            <a:off x="7889760" y="3286080"/>
            <a:ext cx="180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>
            <a:off x="7889760" y="3286080"/>
            <a:ext cx="21600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"/>
          <p:cNvSpPr/>
          <p:nvPr/>
        </p:nvSpPr>
        <p:spPr>
          <a:xfrm>
            <a:off x="8105760" y="3286080"/>
            <a:ext cx="144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"/>
          <p:cNvSpPr/>
          <p:nvPr/>
        </p:nvSpPr>
        <p:spPr>
          <a:xfrm>
            <a:off x="8105760" y="3286080"/>
            <a:ext cx="144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"/>
          <p:cNvSpPr/>
          <p:nvPr/>
        </p:nvSpPr>
        <p:spPr>
          <a:xfrm>
            <a:off x="8105760" y="3286080"/>
            <a:ext cx="144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"/>
          <p:cNvSpPr/>
          <p:nvPr/>
        </p:nvSpPr>
        <p:spPr>
          <a:xfrm>
            <a:off x="8105760" y="3286080"/>
            <a:ext cx="23508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"/>
          <p:cNvSpPr/>
          <p:nvPr/>
        </p:nvSpPr>
        <p:spPr>
          <a:xfrm>
            <a:off x="8340840" y="3286080"/>
            <a:ext cx="144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>
            <a:off x="8340840" y="3286080"/>
            <a:ext cx="144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"/>
          <p:cNvSpPr/>
          <p:nvPr/>
        </p:nvSpPr>
        <p:spPr>
          <a:xfrm>
            <a:off x="8340840" y="3286080"/>
            <a:ext cx="144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"/>
          <p:cNvSpPr/>
          <p:nvPr/>
        </p:nvSpPr>
        <p:spPr>
          <a:xfrm>
            <a:off x="8340840" y="3286080"/>
            <a:ext cx="18576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>
            <a:off x="8531280" y="3286080"/>
            <a:ext cx="144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>
            <a:off x="4902120" y="3219480"/>
            <a:ext cx="432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,0E+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>
            <a:off x="4902120" y="2878200"/>
            <a:ext cx="432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,0E+1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>
            <a:off x="4902120" y="2535120"/>
            <a:ext cx="432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4,0E+1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>
            <a:off x="4902120" y="2193840"/>
            <a:ext cx="432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6,0E+1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>
            <a:off x="4902120" y="1852560"/>
            <a:ext cx="432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8,0E+1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>
            <a:off x="4902120" y="1511280"/>
            <a:ext cx="432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,0E+1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"/>
          <p:cNvSpPr/>
          <p:nvPr/>
        </p:nvSpPr>
        <p:spPr>
          <a:xfrm>
            <a:off x="5298120" y="3379680"/>
            <a:ext cx="2246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,0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>
            <a:off x="6366240" y="3379680"/>
            <a:ext cx="160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,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>
            <a:off x="7454160" y="3379680"/>
            <a:ext cx="64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>
            <a:off x="8462160" y="3379680"/>
            <a:ext cx="128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>
            <a:off x="6738840" y="3440160"/>
            <a:ext cx="247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Dp [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>
            <a:off x="6984720" y="3430440"/>
            <a:ext cx="73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>
            <a:off x="7054560" y="3440160"/>
            <a:ext cx="156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 rot="16200000">
            <a:off x="4248360" y="2345400"/>
            <a:ext cx="10706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900" spc="-1" strike="noStrike">
                <a:solidFill>
                  <a:srgbClr val="000000"/>
                </a:solidFill>
                <a:latin typeface="Arial"/>
              </a:rPr>
              <a:t>dN/dLogDp  [part/s]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>
            <a:off x="4578480" y="3648240"/>
            <a:ext cx="4518000" cy="25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5398920" y="4078440"/>
            <a:ext cx="3132360" cy="17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>
            <a:off x="5398920" y="5554800"/>
            <a:ext cx="31323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>
            <a:off x="5398920" y="5259240"/>
            <a:ext cx="31323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>
            <a:off x="5398920" y="4964040"/>
            <a:ext cx="31323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>
            <a:off x="5398920" y="4668840"/>
            <a:ext cx="31323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"/>
          <p:cNvSpPr/>
          <p:nvPr/>
        </p:nvSpPr>
        <p:spPr>
          <a:xfrm>
            <a:off x="5398920" y="4373640"/>
            <a:ext cx="31323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"/>
          <p:cNvSpPr/>
          <p:nvPr/>
        </p:nvSpPr>
        <p:spPr>
          <a:xfrm>
            <a:off x="5398920" y="4078440"/>
            <a:ext cx="31323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"/>
          <p:cNvSpPr/>
          <p:nvPr/>
        </p:nvSpPr>
        <p:spPr>
          <a:xfrm>
            <a:off x="6442200" y="4078440"/>
            <a:ext cx="1440" cy="1771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"/>
          <p:cNvSpPr/>
          <p:nvPr/>
        </p:nvSpPr>
        <p:spPr>
          <a:xfrm>
            <a:off x="7486560" y="4078440"/>
            <a:ext cx="1800" cy="1771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"/>
          <p:cNvSpPr/>
          <p:nvPr/>
        </p:nvSpPr>
        <p:spPr>
          <a:xfrm>
            <a:off x="8531280" y="4078440"/>
            <a:ext cx="1440" cy="1771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"/>
          <p:cNvSpPr/>
          <p:nvPr/>
        </p:nvSpPr>
        <p:spPr>
          <a:xfrm>
            <a:off x="5398920" y="4078440"/>
            <a:ext cx="3132360" cy="177156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"/>
          <p:cNvSpPr/>
          <p:nvPr/>
        </p:nvSpPr>
        <p:spPr>
          <a:xfrm>
            <a:off x="5398920" y="4078440"/>
            <a:ext cx="1800" cy="1771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>
            <a:off x="5365800" y="5850000"/>
            <a:ext cx="33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"/>
          <p:cNvSpPr/>
          <p:nvPr/>
        </p:nvSpPr>
        <p:spPr>
          <a:xfrm>
            <a:off x="5365800" y="5554800"/>
            <a:ext cx="33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"/>
          <p:cNvSpPr/>
          <p:nvPr/>
        </p:nvSpPr>
        <p:spPr>
          <a:xfrm>
            <a:off x="5365800" y="5259240"/>
            <a:ext cx="331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"/>
          <p:cNvSpPr/>
          <p:nvPr/>
        </p:nvSpPr>
        <p:spPr>
          <a:xfrm>
            <a:off x="5365800" y="4964040"/>
            <a:ext cx="331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"/>
          <p:cNvSpPr/>
          <p:nvPr/>
        </p:nvSpPr>
        <p:spPr>
          <a:xfrm>
            <a:off x="5365800" y="4668840"/>
            <a:ext cx="33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"/>
          <p:cNvSpPr/>
          <p:nvPr/>
        </p:nvSpPr>
        <p:spPr>
          <a:xfrm>
            <a:off x="5365800" y="4373640"/>
            <a:ext cx="33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"/>
          <p:cNvSpPr/>
          <p:nvPr/>
        </p:nvSpPr>
        <p:spPr>
          <a:xfrm>
            <a:off x="5365800" y="4078440"/>
            <a:ext cx="33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"/>
          <p:cNvSpPr/>
          <p:nvPr/>
        </p:nvSpPr>
        <p:spPr>
          <a:xfrm>
            <a:off x="5398920" y="5850000"/>
            <a:ext cx="31323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"/>
          <p:cNvSpPr/>
          <p:nvPr/>
        </p:nvSpPr>
        <p:spPr>
          <a:xfrm flipV="1">
            <a:off x="5398920" y="5850000"/>
            <a:ext cx="1800" cy="25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"/>
          <p:cNvSpPr/>
          <p:nvPr/>
        </p:nvSpPr>
        <p:spPr>
          <a:xfrm flipV="1">
            <a:off x="5713560" y="5850000"/>
            <a:ext cx="1440" cy="25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"/>
          <p:cNvSpPr/>
          <p:nvPr/>
        </p:nvSpPr>
        <p:spPr>
          <a:xfrm flipV="1">
            <a:off x="5896080" y="5850000"/>
            <a:ext cx="1440" cy="25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"/>
          <p:cNvSpPr/>
          <p:nvPr/>
        </p:nvSpPr>
        <p:spPr>
          <a:xfrm flipV="1">
            <a:off x="6026040" y="5850000"/>
            <a:ext cx="1800" cy="25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"/>
          <p:cNvSpPr/>
          <p:nvPr/>
        </p:nvSpPr>
        <p:spPr>
          <a:xfrm flipV="1">
            <a:off x="6127920" y="5850000"/>
            <a:ext cx="1440" cy="25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 flipV="1">
            <a:off x="6211800" y="5850000"/>
            <a:ext cx="1800" cy="25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"/>
          <p:cNvSpPr/>
          <p:nvPr/>
        </p:nvSpPr>
        <p:spPr>
          <a:xfrm flipV="1">
            <a:off x="6281640" y="5850000"/>
            <a:ext cx="1800" cy="25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"/>
          <p:cNvSpPr/>
          <p:nvPr/>
        </p:nvSpPr>
        <p:spPr>
          <a:xfrm flipV="1">
            <a:off x="6342120" y="5850000"/>
            <a:ext cx="1440" cy="25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"/>
          <p:cNvSpPr/>
          <p:nvPr/>
        </p:nvSpPr>
        <p:spPr>
          <a:xfrm flipV="1">
            <a:off x="6394320" y="5850000"/>
            <a:ext cx="1800" cy="25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"/>
          <p:cNvSpPr/>
          <p:nvPr/>
        </p:nvSpPr>
        <p:spPr>
          <a:xfrm flipV="1">
            <a:off x="6442200" y="5850000"/>
            <a:ext cx="1440" cy="25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"/>
          <p:cNvSpPr/>
          <p:nvPr/>
        </p:nvSpPr>
        <p:spPr>
          <a:xfrm flipV="1">
            <a:off x="6757920" y="5850000"/>
            <a:ext cx="1800" cy="25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"/>
          <p:cNvSpPr/>
          <p:nvPr/>
        </p:nvSpPr>
        <p:spPr>
          <a:xfrm flipV="1">
            <a:off x="6940440" y="5850000"/>
            <a:ext cx="1800" cy="25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"/>
          <p:cNvSpPr/>
          <p:nvPr/>
        </p:nvSpPr>
        <p:spPr>
          <a:xfrm flipV="1">
            <a:off x="7072200" y="5850000"/>
            <a:ext cx="1800" cy="25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"/>
          <p:cNvSpPr/>
          <p:nvPr/>
        </p:nvSpPr>
        <p:spPr>
          <a:xfrm flipV="1">
            <a:off x="7172280" y="5850000"/>
            <a:ext cx="1800" cy="25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"/>
          <p:cNvSpPr/>
          <p:nvPr/>
        </p:nvSpPr>
        <p:spPr>
          <a:xfrm flipV="1">
            <a:off x="7254720" y="5850000"/>
            <a:ext cx="1800" cy="25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"/>
          <p:cNvSpPr/>
          <p:nvPr/>
        </p:nvSpPr>
        <p:spPr>
          <a:xfrm flipV="1">
            <a:off x="7324560" y="5850000"/>
            <a:ext cx="1800" cy="25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"/>
          <p:cNvSpPr/>
          <p:nvPr/>
        </p:nvSpPr>
        <p:spPr>
          <a:xfrm flipV="1">
            <a:off x="7385040" y="5850000"/>
            <a:ext cx="1440" cy="25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"/>
          <p:cNvSpPr/>
          <p:nvPr/>
        </p:nvSpPr>
        <p:spPr>
          <a:xfrm flipV="1">
            <a:off x="7439040" y="5850000"/>
            <a:ext cx="1440" cy="25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"/>
          <p:cNvSpPr/>
          <p:nvPr/>
        </p:nvSpPr>
        <p:spPr>
          <a:xfrm flipV="1">
            <a:off x="7486560" y="5850000"/>
            <a:ext cx="1800" cy="25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"/>
          <p:cNvSpPr/>
          <p:nvPr/>
        </p:nvSpPr>
        <p:spPr>
          <a:xfrm flipV="1">
            <a:off x="7800840" y="5850000"/>
            <a:ext cx="1800" cy="25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"/>
          <p:cNvSpPr/>
          <p:nvPr/>
        </p:nvSpPr>
        <p:spPr>
          <a:xfrm flipV="1">
            <a:off x="7985160" y="5850000"/>
            <a:ext cx="1440" cy="25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"/>
          <p:cNvSpPr/>
          <p:nvPr/>
        </p:nvSpPr>
        <p:spPr>
          <a:xfrm flipV="1">
            <a:off x="8115480" y="5850000"/>
            <a:ext cx="1440" cy="25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"/>
          <p:cNvSpPr/>
          <p:nvPr/>
        </p:nvSpPr>
        <p:spPr>
          <a:xfrm flipV="1">
            <a:off x="8217000" y="5850000"/>
            <a:ext cx="1440" cy="25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"/>
          <p:cNvSpPr/>
          <p:nvPr/>
        </p:nvSpPr>
        <p:spPr>
          <a:xfrm flipV="1">
            <a:off x="8299440" y="5850000"/>
            <a:ext cx="1440" cy="25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"/>
          <p:cNvSpPr/>
          <p:nvPr/>
        </p:nvSpPr>
        <p:spPr>
          <a:xfrm flipV="1">
            <a:off x="8369280" y="5850000"/>
            <a:ext cx="1440" cy="25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"/>
          <p:cNvSpPr/>
          <p:nvPr/>
        </p:nvSpPr>
        <p:spPr>
          <a:xfrm flipV="1">
            <a:off x="8429760" y="5850000"/>
            <a:ext cx="1440" cy="25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"/>
          <p:cNvSpPr/>
          <p:nvPr/>
        </p:nvSpPr>
        <p:spPr>
          <a:xfrm flipV="1">
            <a:off x="8483760" y="5850000"/>
            <a:ext cx="1440" cy="25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"/>
          <p:cNvSpPr/>
          <p:nvPr/>
        </p:nvSpPr>
        <p:spPr>
          <a:xfrm flipV="1">
            <a:off x="8531280" y="5850000"/>
            <a:ext cx="1440" cy="25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"/>
          <p:cNvSpPr/>
          <p:nvPr/>
        </p:nvSpPr>
        <p:spPr>
          <a:xfrm flipV="1">
            <a:off x="5398920" y="5850000"/>
            <a:ext cx="1800" cy="33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"/>
          <p:cNvSpPr/>
          <p:nvPr/>
        </p:nvSpPr>
        <p:spPr>
          <a:xfrm flipV="1">
            <a:off x="6442200" y="5850000"/>
            <a:ext cx="1440" cy="33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"/>
          <p:cNvSpPr/>
          <p:nvPr/>
        </p:nvSpPr>
        <p:spPr>
          <a:xfrm flipV="1">
            <a:off x="7486560" y="5850000"/>
            <a:ext cx="1800" cy="33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"/>
          <p:cNvSpPr/>
          <p:nvPr/>
        </p:nvSpPr>
        <p:spPr>
          <a:xfrm flipV="1">
            <a:off x="8531280" y="5850000"/>
            <a:ext cx="1440" cy="33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"/>
          <p:cNvSpPr/>
          <p:nvPr/>
        </p:nvSpPr>
        <p:spPr>
          <a:xfrm flipV="1">
            <a:off x="5896080" y="4322880"/>
            <a:ext cx="1440" cy="152712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"/>
          <p:cNvSpPr/>
          <p:nvPr/>
        </p:nvSpPr>
        <p:spPr>
          <a:xfrm>
            <a:off x="5896080" y="4322880"/>
            <a:ext cx="31572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"/>
          <p:cNvSpPr/>
          <p:nvPr/>
        </p:nvSpPr>
        <p:spPr>
          <a:xfrm>
            <a:off x="6211800" y="4322880"/>
            <a:ext cx="1800" cy="152712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"/>
          <p:cNvSpPr/>
          <p:nvPr/>
        </p:nvSpPr>
        <p:spPr>
          <a:xfrm>
            <a:off x="6211800" y="5850000"/>
            <a:ext cx="180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"/>
          <p:cNvSpPr/>
          <p:nvPr/>
        </p:nvSpPr>
        <p:spPr>
          <a:xfrm flipV="1">
            <a:off x="6211800" y="4116240"/>
            <a:ext cx="1800" cy="173376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"/>
          <p:cNvSpPr/>
          <p:nvPr/>
        </p:nvSpPr>
        <p:spPr>
          <a:xfrm>
            <a:off x="6211800" y="4116240"/>
            <a:ext cx="24948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"/>
          <p:cNvSpPr/>
          <p:nvPr/>
        </p:nvSpPr>
        <p:spPr>
          <a:xfrm>
            <a:off x="6461280" y="4116240"/>
            <a:ext cx="1440" cy="173376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"/>
          <p:cNvSpPr/>
          <p:nvPr/>
        </p:nvSpPr>
        <p:spPr>
          <a:xfrm>
            <a:off x="6461280" y="5850000"/>
            <a:ext cx="144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"/>
          <p:cNvSpPr/>
          <p:nvPr/>
        </p:nvSpPr>
        <p:spPr>
          <a:xfrm flipV="1">
            <a:off x="6461280" y="4941360"/>
            <a:ext cx="1440" cy="90828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"/>
          <p:cNvSpPr/>
          <p:nvPr/>
        </p:nvSpPr>
        <p:spPr>
          <a:xfrm>
            <a:off x="6461280" y="4941720"/>
            <a:ext cx="20772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"/>
          <p:cNvSpPr/>
          <p:nvPr/>
        </p:nvSpPr>
        <p:spPr>
          <a:xfrm>
            <a:off x="6669000" y="4941720"/>
            <a:ext cx="1800" cy="90828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"/>
          <p:cNvSpPr/>
          <p:nvPr/>
        </p:nvSpPr>
        <p:spPr>
          <a:xfrm>
            <a:off x="6669000" y="5850000"/>
            <a:ext cx="180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"/>
          <p:cNvSpPr/>
          <p:nvPr/>
        </p:nvSpPr>
        <p:spPr>
          <a:xfrm flipV="1">
            <a:off x="6669000" y="5554800"/>
            <a:ext cx="1800" cy="2952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"/>
          <p:cNvSpPr/>
          <p:nvPr/>
        </p:nvSpPr>
        <p:spPr>
          <a:xfrm>
            <a:off x="6669000" y="5554800"/>
            <a:ext cx="19692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"/>
          <p:cNvSpPr/>
          <p:nvPr/>
        </p:nvSpPr>
        <p:spPr>
          <a:xfrm>
            <a:off x="6865920" y="5554800"/>
            <a:ext cx="1440" cy="2952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"/>
          <p:cNvSpPr/>
          <p:nvPr/>
        </p:nvSpPr>
        <p:spPr>
          <a:xfrm>
            <a:off x="6865920" y="5850000"/>
            <a:ext cx="144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"/>
          <p:cNvSpPr/>
          <p:nvPr/>
        </p:nvSpPr>
        <p:spPr>
          <a:xfrm flipV="1">
            <a:off x="6865920" y="5770080"/>
            <a:ext cx="1440" cy="7956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"/>
          <p:cNvSpPr/>
          <p:nvPr/>
        </p:nvSpPr>
        <p:spPr>
          <a:xfrm>
            <a:off x="6865920" y="5770440"/>
            <a:ext cx="19512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"/>
          <p:cNvSpPr/>
          <p:nvPr/>
        </p:nvSpPr>
        <p:spPr>
          <a:xfrm>
            <a:off x="7061040" y="5770440"/>
            <a:ext cx="1800" cy="7956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"/>
          <p:cNvSpPr/>
          <p:nvPr/>
        </p:nvSpPr>
        <p:spPr>
          <a:xfrm>
            <a:off x="7061040" y="5850000"/>
            <a:ext cx="180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"/>
          <p:cNvSpPr/>
          <p:nvPr/>
        </p:nvSpPr>
        <p:spPr>
          <a:xfrm flipV="1">
            <a:off x="7061040" y="5827680"/>
            <a:ext cx="1800" cy="2232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"/>
          <p:cNvSpPr/>
          <p:nvPr/>
        </p:nvSpPr>
        <p:spPr>
          <a:xfrm>
            <a:off x="7061040" y="5827680"/>
            <a:ext cx="22068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"/>
          <p:cNvSpPr/>
          <p:nvPr/>
        </p:nvSpPr>
        <p:spPr>
          <a:xfrm>
            <a:off x="7281720" y="5827680"/>
            <a:ext cx="1800" cy="2232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"/>
          <p:cNvSpPr/>
          <p:nvPr/>
        </p:nvSpPr>
        <p:spPr>
          <a:xfrm>
            <a:off x="7281720" y="5850000"/>
            <a:ext cx="180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"/>
          <p:cNvSpPr/>
          <p:nvPr/>
        </p:nvSpPr>
        <p:spPr>
          <a:xfrm flipV="1">
            <a:off x="7281720" y="5842080"/>
            <a:ext cx="1800" cy="792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"/>
          <p:cNvSpPr/>
          <p:nvPr/>
        </p:nvSpPr>
        <p:spPr>
          <a:xfrm>
            <a:off x="7281720" y="5842080"/>
            <a:ext cx="20160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"/>
          <p:cNvSpPr/>
          <p:nvPr/>
        </p:nvSpPr>
        <p:spPr>
          <a:xfrm>
            <a:off x="7483320" y="5842080"/>
            <a:ext cx="1800" cy="792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"/>
          <p:cNvSpPr/>
          <p:nvPr/>
        </p:nvSpPr>
        <p:spPr>
          <a:xfrm>
            <a:off x="7483320" y="5850000"/>
            <a:ext cx="180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"/>
          <p:cNvSpPr/>
          <p:nvPr/>
        </p:nvSpPr>
        <p:spPr>
          <a:xfrm flipV="1">
            <a:off x="7483320" y="5847840"/>
            <a:ext cx="180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"/>
          <p:cNvSpPr/>
          <p:nvPr/>
        </p:nvSpPr>
        <p:spPr>
          <a:xfrm>
            <a:off x="7483320" y="5848200"/>
            <a:ext cx="21600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"/>
          <p:cNvSpPr/>
          <p:nvPr/>
        </p:nvSpPr>
        <p:spPr>
          <a:xfrm>
            <a:off x="7699320" y="5848200"/>
            <a:ext cx="180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"/>
          <p:cNvSpPr/>
          <p:nvPr/>
        </p:nvSpPr>
        <p:spPr>
          <a:xfrm>
            <a:off x="7699320" y="5850000"/>
            <a:ext cx="180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"/>
          <p:cNvSpPr/>
          <p:nvPr/>
        </p:nvSpPr>
        <p:spPr>
          <a:xfrm>
            <a:off x="7699320" y="5850000"/>
            <a:ext cx="180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"/>
          <p:cNvSpPr/>
          <p:nvPr/>
        </p:nvSpPr>
        <p:spPr>
          <a:xfrm>
            <a:off x="7699320" y="5850000"/>
            <a:ext cx="19548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"/>
          <p:cNvSpPr/>
          <p:nvPr/>
        </p:nvSpPr>
        <p:spPr>
          <a:xfrm>
            <a:off x="7894800" y="5850000"/>
            <a:ext cx="144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" name=""/>
          <p:cNvSpPr/>
          <p:nvPr/>
        </p:nvSpPr>
        <p:spPr>
          <a:xfrm>
            <a:off x="7894800" y="5850000"/>
            <a:ext cx="144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" name=""/>
          <p:cNvSpPr/>
          <p:nvPr/>
        </p:nvSpPr>
        <p:spPr>
          <a:xfrm>
            <a:off x="7894800" y="5850000"/>
            <a:ext cx="144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"/>
          <p:cNvSpPr/>
          <p:nvPr/>
        </p:nvSpPr>
        <p:spPr>
          <a:xfrm>
            <a:off x="7894800" y="5850000"/>
            <a:ext cx="21564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"/>
          <p:cNvSpPr/>
          <p:nvPr/>
        </p:nvSpPr>
        <p:spPr>
          <a:xfrm>
            <a:off x="8110440" y="5850000"/>
            <a:ext cx="180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"/>
          <p:cNvSpPr/>
          <p:nvPr/>
        </p:nvSpPr>
        <p:spPr>
          <a:xfrm>
            <a:off x="8110440" y="5850000"/>
            <a:ext cx="180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"/>
          <p:cNvSpPr/>
          <p:nvPr/>
        </p:nvSpPr>
        <p:spPr>
          <a:xfrm>
            <a:off x="8110440" y="5850000"/>
            <a:ext cx="180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"/>
          <p:cNvSpPr/>
          <p:nvPr/>
        </p:nvSpPr>
        <p:spPr>
          <a:xfrm>
            <a:off x="8110440" y="5850000"/>
            <a:ext cx="23652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"/>
          <p:cNvSpPr/>
          <p:nvPr/>
        </p:nvSpPr>
        <p:spPr>
          <a:xfrm>
            <a:off x="8346960" y="5850000"/>
            <a:ext cx="180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"/>
          <p:cNvSpPr/>
          <p:nvPr/>
        </p:nvSpPr>
        <p:spPr>
          <a:xfrm>
            <a:off x="8346960" y="5850000"/>
            <a:ext cx="180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"/>
          <p:cNvSpPr/>
          <p:nvPr/>
        </p:nvSpPr>
        <p:spPr>
          <a:xfrm>
            <a:off x="8346960" y="5850000"/>
            <a:ext cx="180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"/>
          <p:cNvSpPr/>
          <p:nvPr/>
        </p:nvSpPr>
        <p:spPr>
          <a:xfrm>
            <a:off x="8346960" y="5850000"/>
            <a:ext cx="18576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" name=""/>
          <p:cNvSpPr/>
          <p:nvPr/>
        </p:nvSpPr>
        <p:spPr>
          <a:xfrm>
            <a:off x="8537400" y="5850000"/>
            <a:ext cx="180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"/>
          <p:cNvSpPr/>
          <p:nvPr/>
        </p:nvSpPr>
        <p:spPr>
          <a:xfrm>
            <a:off x="4919400" y="5783400"/>
            <a:ext cx="432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,0E+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" name=""/>
          <p:cNvSpPr/>
          <p:nvPr/>
        </p:nvSpPr>
        <p:spPr>
          <a:xfrm>
            <a:off x="4919400" y="5487840"/>
            <a:ext cx="432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5,0E+1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" name=""/>
          <p:cNvSpPr/>
          <p:nvPr/>
        </p:nvSpPr>
        <p:spPr>
          <a:xfrm>
            <a:off x="4919400" y="5192640"/>
            <a:ext cx="432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,0E+1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"/>
          <p:cNvSpPr/>
          <p:nvPr/>
        </p:nvSpPr>
        <p:spPr>
          <a:xfrm>
            <a:off x="4919400" y="4897440"/>
            <a:ext cx="432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,5E+1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"/>
          <p:cNvSpPr/>
          <p:nvPr/>
        </p:nvSpPr>
        <p:spPr>
          <a:xfrm>
            <a:off x="4919400" y="4602240"/>
            <a:ext cx="432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,0E+1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"/>
          <p:cNvSpPr/>
          <p:nvPr/>
        </p:nvSpPr>
        <p:spPr>
          <a:xfrm>
            <a:off x="4919400" y="4307040"/>
            <a:ext cx="432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,5E+1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"/>
          <p:cNvSpPr/>
          <p:nvPr/>
        </p:nvSpPr>
        <p:spPr>
          <a:xfrm>
            <a:off x="4919400" y="4011480"/>
            <a:ext cx="432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,0E+1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"/>
          <p:cNvSpPr/>
          <p:nvPr/>
        </p:nvSpPr>
        <p:spPr>
          <a:xfrm>
            <a:off x="5315400" y="5943600"/>
            <a:ext cx="2246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,0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"/>
          <p:cNvSpPr/>
          <p:nvPr/>
        </p:nvSpPr>
        <p:spPr>
          <a:xfrm>
            <a:off x="6388560" y="5943600"/>
            <a:ext cx="160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,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"/>
          <p:cNvSpPr/>
          <p:nvPr/>
        </p:nvSpPr>
        <p:spPr>
          <a:xfrm>
            <a:off x="7481160" y="5943600"/>
            <a:ext cx="64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"/>
          <p:cNvSpPr/>
          <p:nvPr/>
        </p:nvSpPr>
        <p:spPr>
          <a:xfrm>
            <a:off x="8493840" y="5943600"/>
            <a:ext cx="128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/>
          <p:nvPr/>
        </p:nvSpPr>
        <p:spPr>
          <a:xfrm>
            <a:off x="6729480" y="6013440"/>
            <a:ext cx="247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Dp [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"/>
          <p:cNvSpPr/>
          <p:nvPr/>
        </p:nvSpPr>
        <p:spPr>
          <a:xfrm>
            <a:off x="7014600" y="6004080"/>
            <a:ext cx="73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"/>
          <p:cNvSpPr/>
          <p:nvPr/>
        </p:nvSpPr>
        <p:spPr>
          <a:xfrm>
            <a:off x="7074360" y="6013440"/>
            <a:ext cx="156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"/>
          <p:cNvSpPr/>
          <p:nvPr/>
        </p:nvSpPr>
        <p:spPr>
          <a:xfrm rot="16200000">
            <a:off x="4238640" y="4879440"/>
            <a:ext cx="10706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900" spc="-1" strike="noStrike">
                <a:solidFill>
                  <a:srgbClr val="000000"/>
                </a:solidFill>
                <a:latin typeface="Arial"/>
              </a:rPr>
              <a:t>dN/dLogDp  [part/s]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"/>
          <p:cNvSpPr/>
          <p:nvPr/>
        </p:nvSpPr>
        <p:spPr>
          <a:xfrm>
            <a:off x="4732200" y="3762360"/>
            <a:ext cx="1022400" cy="1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"/>
          <p:cNvSpPr/>
          <p:nvPr/>
        </p:nvSpPr>
        <p:spPr>
          <a:xfrm>
            <a:off x="4527720" y="920880"/>
            <a:ext cx="1440" cy="526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"/>
          <p:cNvSpPr/>
          <p:nvPr/>
        </p:nvSpPr>
        <p:spPr>
          <a:xfrm>
            <a:off x="58680" y="3657600"/>
            <a:ext cx="89949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"/>
          <p:cNvSpPr/>
          <p:nvPr/>
        </p:nvSpPr>
        <p:spPr>
          <a:xfrm>
            <a:off x="58680" y="1128600"/>
            <a:ext cx="8934480" cy="5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"/>
          <p:cNvSpPr/>
          <p:nvPr/>
        </p:nvSpPr>
        <p:spPr>
          <a:xfrm>
            <a:off x="291960" y="1008000"/>
            <a:ext cx="1800" cy="5119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"/>
          <p:cNvSpPr/>
          <p:nvPr/>
        </p:nvSpPr>
        <p:spPr>
          <a:xfrm>
            <a:off x="415800" y="1252440"/>
            <a:ext cx="104328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"/>
          <p:cNvSpPr/>
          <p:nvPr/>
        </p:nvSpPr>
        <p:spPr>
          <a:xfrm>
            <a:off x="4703760" y="1252440"/>
            <a:ext cx="103500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"/>
          <p:cNvSpPr/>
          <p:nvPr/>
        </p:nvSpPr>
        <p:spPr>
          <a:xfrm>
            <a:off x="6858000" y="625320"/>
            <a:ext cx="22874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4" name=""/>
          <p:cNvGrpSpPr/>
          <p:nvPr/>
        </p:nvGrpSpPr>
        <p:grpSpPr>
          <a:xfrm>
            <a:off x="685800" y="152280"/>
            <a:ext cx="8125200" cy="1346040"/>
            <a:chOff x="685800" y="152280"/>
            <a:chExt cx="8125200" cy="1346040"/>
          </a:xfrm>
        </p:grpSpPr>
        <p:sp>
          <p:nvSpPr>
            <p:cNvPr id="1585" name=""/>
            <p:cNvSpPr/>
            <p:nvPr/>
          </p:nvSpPr>
          <p:spPr>
            <a:xfrm>
              <a:off x="685800" y="152280"/>
              <a:ext cx="67057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 u="sng">
                  <a:solidFill>
                    <a:srgbClr val="000000"/>
                  </a:solidFill>
                  <a:uFillTx/>
                  <a:latin typeface="Arial"/>
                </a:rPr>
                <a:t>Distribuzione dimensionale del particolato in numero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6451560" y="584280"/>
              <a:ext cx="2133720" cy="91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Ciclo:      EUDC</a:t>
              </a: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                                                                                                             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6454080" y="838080"/>
              <a:ext cx="2356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Gasolio: convenziona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88" name=""/>
          <p:cNvSpPr/>
          <p:nvPr/>
        </p:nvSpPr>
        <p:spPr>
          <a:xfrm>
            <a:off x="6477120" y="838080"/>
            <a:ext cx="1600200" cy="0"/>
          </a:xfrm>
          <a:prstGeom prst="line">
            <a:avLst/>
          </a:prstGeom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"/>
          <p:cNvSpPr/>
          <p:nvPr/>
        </p:nvSpPr>
        <p:spPr>
          <a:xfrm>
            <a:off x="2321640" y="3759120"/>
            <a:ext cx="812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Veicolo 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"/>
          <p:cNvSpPr/>
          <p:nvPr/>
        </p:nvSpPr>
        <p:spPr>
          <a:xfrm>
            <a:off x="6703200" y="3733920"/>
            <a:ext cx="812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Veicolo 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"/>
          <p:cNvSpPr/>
          <p:nvPr/>
        </p:nvSpPr>
        <p:spPr>
          <a:xfrm>
            <a:off x="2270880" y="1257480"/>
            <a:ext cx="812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Veicolo 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"/>
          <p:cNvSpPr/>
          <p:nvPr/>
        </p:nvSpPr>
        <p:spPr>
          <a:xfrm>
            <a:off x="6563520" y="1257480"/>
            <a:ext cx="812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Veicolo 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a6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3" name=""/>
          <p:cNvSpPr/>
          <p:nvPr/>
        </p:nvSpPr>
        <p:spPr>
          <a:xfrm>
            <a:off x="3352680" y="22860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 P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4" name="" descr=""/>
          <p:cNvPicPr/>
          <p:nvPr/>
        </p:nvPicPr>
        <p:blipFill>
          <a:blip r:embed="rId1"/>
          <a:stretch/>
        </p:blipFill>
        <p:spPr>
          <a:xfrm>
            <a:off x="2133720" y="838080"/>
            <a:ext cx="6781680" cy="5610240"/>
          </a:xfrm>
          <a:prstGeom prst="rect">
            <a:avLst/>
          </a:prstGeom>
          <a:ln w="0">
            <a:noFill/>
          </a:ln>
        </p:spPr>
      </p:pic>
      <p:sp>
        <p:nvSpPr>
          <p:cNvPr id="1595" name=""/>
          <p:cNvSpPr/>
          <p:nvPr/>
        </p:nvSpPr>
        <p:spPr>
          <a:xfrm>
            <a:off x="304920" y="1523880"/>
            <a:ext cx="1752480" cy="150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M &lt; 10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P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"/>
          <p:cNvSpPr/>
          <p:nvPr/>
        </p:nvSpPr>
        <p:spPr>
          <a:xfrm>
            <a:off x="304920" y="3276720"/>
            <a:ext cx="1676160" cy="9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M &lt; 1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P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"/>
          <p:cNvSpPr/>
          <p:nvPr/>
        </p:nvSpPr>
        <p:spPr>
          <a:xfrm>
            <a:off x="0" y="5334120"/>
            <a:ext cx="236232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m &lt; PM &lt; 10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"/>
          <p:cNvSpPr/>
          <p:nvPr/>
        </p:nvSpPr>
        <p:spPr>
          <a:xfrm>
            <a:off x="4724280" y="2895480"/>
            <a:ext cx="1067040" cy="533520"/>
          </a:xfrm>
          <a:prstGeom prst="ellipse">
            <a:avLst/>
          </a:prstGeom>
          <a:noFill/>
          <a:ln cap="rnd" w="255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"/>
          <p:cNvSpPr/>
          <p:nvPr/>
        </p:nvSpPr>
        <p:spPr>
          <a:xfrm>
            <a:off x="7543800" y="68580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eicolo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00" name=""/>
          <p:cNvGrpSpPr/>
          <p:nvPr/>
        </p:nvGrpSpPr>
        <p:grpSpPr>
          <a:xfrm>
            <a:off x="3276720" y="3429000"/>
            <a:ext cx="2057400" cy="1816200"/>
            <a:chOff x="3276720" y="3429000"/>
            <a:chExt cx="2057400" cy="1816200"/>
          </a:xfrm>
        </p:grpSpPr>
        <p:sp>
          <p:nvSpPr>
            <p:cNvPr id="1601" name=""/>
            <p:cNvSpPr/>
            <p:nvPr/>
          </p:nvSpPr>
          <p:spPr>
            <a:xfrm flipH="1">
              <a:off x="4343040" y="3429000"/>
              <a:ext cx="685800" cy="91440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3276720" y="4419720"/>
              <a:ext cx="2057400" cy="8254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5 %           PM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,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03" name=""/>
          <p:cNvSpPr/>
          <p:nvPr/>
        </p:nvSpPr>
        <p:spPr>
          <a:xfrm>
            <a:off x="1752480" y="685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N/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5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5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6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6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a6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4" name="" descr=""/>
          <p:cNvPicPr/>
          <p:nvPr/>
        </p:nvPicPr>
        <p:blipFill>
          <a:blip r:embed="rId1"/>
          <a:stretch/>
        </p:blipFill>
        <p:spPr>
          <a:xfrm>
            <a:off x="2286000" y="609480"/>
            <a:ext cx="6629400" cy="5867640"/>
          </a:xfrm>
          <a:prstGeom prst="rect">
            <a:avLst/>
          </a:prstGeom>
          <a:ln w="0">
            <a:noFill/>
          </a:ln>
        </p:spPr>
      </p:pic>
      <p:sp>
        <p:nvSpPr>
          <p:cNvPr id="1605" name=""/>
          <p:cNvSpPr/>
          <p:nvPr/>
        </p:nvSpPr>
        <p:spPr>
          <a:xfrm>
            <a:off x="7315200" y="45720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eicolo 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"/>
          <p:cNvSpPr/>
          <p:nvPr/>
        </p:nvSpPr>
        <p:spPr>
          <a:xfrm>
            <a:off x="4648320" y="2819520"/>
            <a:ext cx="1066680" cy="533160"/>
          </a:xfrm>
          <a:prstGeom prst="ellipse">
            <a:avLst/>
          </a:prstGeom>
          <a:noFill/>
          <a:ln cap="rnd" w="255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07" name=""/>
          <p:cNvGrpSpPr/>
          <p:nvPr/>
        </p:nvGrpSpPr>
        <p:grpSpPr>
          <a:xfrm>
            <a:off x="2971800" y="3429000"/>
            <a:ext cx="2057400" cy="1816200"/>
            <a:chOff x="2971800" y="3429000"/>
            <a:chExt cx="2057400" cy="1816200"/>
          </a:xfrm>
        </p:grpSpPr>
        <p:sp>
          <p:nvSpPr>
            <p:cNvPr id="1608" name=""/>
            <p:cNvSpPr/>
            <p:nvPr/>
          </p:nvSpPr>
          <p:spPr>
            <a:xfrm flipH="1">
              <a:off x="4038120" y="3429000"/>
              <a:ext cx="685800" cy="91440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2971800" y="4419720"/>
              <a:ext cx="2057400" cy="8254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5 %           PM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,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0" name=""/>
          <p:cNvSpPr/>
          <p:nvPr/>
        </p:nvSpPr>
        <p:spPr>
          <a:xfrm>
            <a:off x="304920" y="1523880"/>
            <a:ext cx="1752480" cy="150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M &lt; 10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P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" name=""/>
          <p:cNvSpPr/>
          <p:nvPr/>
        </p:nvSpPr>
        <p:spPr>
          <a:xfrm>
            <a:off x="304920" y="3276720"/>
            <a:ext cx="1676160" cy="9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M &lt; 1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P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" name=""/>
          <p:cNvSpPr/>
          <p:nvPr/>
        </p:nvSpPr>
        <p:spPr>
          <a:xfrm>
            <a:off x="0" y="5334120"/>
            <a:ext cx="236232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m &lt; PM &lt; 10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"/>
          <p:cNvSpPr/>
          <p:nvPr/>
        </p:nvSpPr>
        <p:spPr>
          <a:xfrm>
            <a:off x="3352680" y="22860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 P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6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6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6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6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a6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4" name=""/>
          <p:cNvSpPr/>
          <p:nvPr/>
        </p:nvSpPr>
        <p:spPr>
          <a:xfrm>
            <a:off x="457200" y="533520"/>
            <a:ext cx="8001000" cy="592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 u="sng">
                <a:solidFill>
                  <a:srgbClr val="000000"/>
                </a:solidFill>
                <a:uFillTx/>
                <a:latin typeface="Arial"/>
              </a:rPr>
              <a:t>PRINCIPALI CONCLUSIONI</a:t>
            </a: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L’emissione in numero di particelle per km percorso del  PM</a:t>
            </a:r>
            <a:r>
              <a:rPr b="0" lang="it-IT" sz="22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 misurata nello scarico dei quattro autoveicoli diesel provati: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è diminuita in modo sensibile man mano che il livello tecnologico degli autoveicoli aumentav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tendeva a diminuire leggermente con la velocità media per i modelli più recenti e in modo sensibile per quello omologato Euro 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dipendeva dalle condizioni di guida dell’autoveicolo (velocità, accelerazione)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ha presentato una distribuzione dimensionale log-normale centrata all’interno di diametri aerodinamici compresi tra 40 e 130 n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può essere classificata come PM</a:t>
            </a:r>
            <a:r>
              <a:rPr b="0" lang="it-IT" sz="2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 e non come PM</a:t>
            </a:r>
            <a:r>
              <a:rPr b="0" lang="it-IT" sz="22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a6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143000" y="304920"/>
            <a:ext cx="70866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PROGETTO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PUMI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                                                     (Il 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Arial"/>
              </a:rPr>
              <a:t>P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articolato fine nell’atmosfera 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Arial"/>
              </a:rPr>
              <a:t>u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rbana 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Arial"/>
              </a:rPr>
              <a:t>m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ilane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1981080"/>
            <a:ext cx="58676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i="1" lang="en-US" sz="2500" spc="-1" strike="noStrike" u="sng">
                <a:solidFill>
                  <a:srgbClr val="000000"/>
                </a:solidFill>
                <a:uFillTx/>
                <a:latin typeface="Arial"/>
              </a:rPr>
              <a:t>ENTI PROMOTORI E FINANZIATORI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66680" y="3048120"/>
            <a:ext cx="723924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NDAZIONE LOMBARDIA PER L’AMB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ONE LOMBARD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UNE DI MILA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PA LOMBARD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a6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1905120" y="2743200"/>
            <a:ext cx="5486400" cy="3352320"/>
            <a:chOff x="1905120" y="2743200"/>
            <a:chExt cx="5486400" cy="3352320"/>
          </a:xfrm>
        </p:grpSpPr>
        <p:pic>
          <p:nvPicPr>
            <p:cNvPr id="53" name="" descr=""/>
            <p:cNvPicPr/>
            <p:nvPr/>
          </p:nvPicPr>
          <p:blipFill>
            <a:blip r:embed="rId1"/>
            <a:stretch/>
          </p:blipFill>
          <p:spPr>
            <a:xfrm>
              <a:off x="1905120" y="4628880"/>
              <a:ext cx="5486400" cy="1466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" descr=""/>
            <p:cNvPicPr/>
            <p:nvPr/>
          </p:nvPicPr>
          <p:blipFill>
            <a:blip r:embed="rId2"/>
            <a:stretch/>
          </p:blipFill>
          <p:spPr>
            <a:xfrm>
              <a:off x="4904280" y="2743200"/>
              <a:ext cx="1624320" cy="167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" descr=""/>
            <p:cNvPicPr/>
            <p:nvPr/>
          </p:nvPicPr>
          <p:blipFill>
            <a:blip r:embed="rId3"/>
            <a:stretch/>
          </p:blipFill>
          <p:spPr>
            <a:xfrm>
              <a:off x="2636640" y="2743200"/>
              <a:ext cx="1295280" cy="174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" name=""/>
          <p:cNvSpPr/>
          <p:nvPr/>
        </p:nvSpPr>
        <p:spPr>
          <a:xfrm>
            <a:off x="914400" y="1663560"/>
            <a:ext cx="58672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i="1" lang="en-US" sz="2500" spc="-1" strike="noStrike" u="sng">
                <a:solidFill>
                  <a:srgbClr val="000000"/>
                </a:solidFill>
                <a:uFillTx/>
                <a:latin typeface="Arial"/>
              </a:rPr>
              <a:t>PARTECIPANTI AL PROGRAMMA SPERIMENTALE  DEL PLG 1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143000" y="304920"/>
            <a:ext cx="70866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PROGETTO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PUMI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                                                     (Il 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Arial"/>
              </a:rPr>
              <a:t>P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articolato fine nell’atmosfera 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Arial"/>
              </a:rPr>
              <a:t>u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rbana 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Arial"/>
              </a:rPr>
              <a:t>m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ilane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a6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04920" y="1523880"/>
            <a:ext cx="373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OBIETTIVI DEL PGL 1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0" y="3200400"/>
            <a:ext cx="815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levare i dati di emissione da sorgenti primarie rappresentative (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fonti mobil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riscaldamento civile, centrali termoelettriche e inceneritor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457200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atterizzazione dimensionale,  chimica  e morfologica della frazione P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l particolato emesso dagli autoveic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09480" y="1981080"/>
            <a:ext cx="7925040" cy="12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eterminazione dei Fattori di Emissione e Raccolta del Particolato Atmosferico delle sorgenti di combustione”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143000" y="304920"/>
            <a:ext cx="70866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PROGETTO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PUMI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                                                     (Il 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Arial"/>
              </a:rPr>
              <a:t>P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articolato fine nell’atmosfera 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Arial"/>
              </a:rPr>
              <a:t>u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rbana 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Arial"/>
              </a:rPr>
              <a:t>m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ilane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a6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905120" y="533520"/>
            <a:ext cx="5562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UTOVEICOLI DI PROV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914400" y="1523880"/>
          <a:ext cx="7162920" cy="4484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523880"/>
                    <a:ext cx="7162920" cy="448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a6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63360" y="1325520"/>
            <a:ext cx="8839440" cy="51213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6159600" y="4756320"/>
            <a:ext cx="1371600" cy="9601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1219320" y="888840"/>
            <a:ext cx="7238880" cy="3189600"/>
          </a:xfrm>
          <a:prstGeom prst="rect">
            <a:avLst/>
          </a:prstGeom>
          <a:ln w="25560">
            <a:solidFill>
              <a:srgbClr val="ff9900"/>
            </a:solidFill>
            <a:miter/>
          </a:ln>
        </p:spPr>
      </p:pic>
      <p:sp>
        <p:nvSpPr>
          <p:cNvPr id="69" name=""/>
          <p:cNvSpPr/>
          <p:nvPr/>
        </p:nvSpPr>
        <p:spPr>
          <a:xfrm>
            <a:off x="0" y="152280"/>
            <a:ext cx="899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STEMA DI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CAMPIONAMENTO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E DI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ANALIS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                                              DELLE EMISSIONI INQUINANT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685800" y="4076640"/>
          <a:ext cx="5311800" cy="25527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5800" y="4076640"/>
                    <a:ext cx="5311800" cy="255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a6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1905120"/>
            <a:ext cx="8839080" cy="45529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2057400" y="3795840"/>
            <a:ext cx="1676520" cy="914400"/>
          </a:xfrm>
          <a:prstGeom prst="ellipse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4894200"/>
            <a:ext cx="1600200" cy="1219320"/>
          </a:xfrm>
          <a:prstGeom prst="ellipse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0" y="152280"/>
            <a:ext cx="899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STEMA DI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CAMPIONAMENTO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E DI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ANALIS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                                              DELLE EMISSIONI INQUINANT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2514600" y="990720"/>
            <a:ext cx="6477120" cy="3533760"/>
            <a:chOff x="2514600" y="990720"/>
            <a:chExt cx="6477120" cy="3533760"/>
          </a:xfrm>
        </p:grpSpPr>
        <p:grpSp>
          <p:nvGrpSpPr>
            <p:cNvPr id="77" name=""/>
            <p:cNvGrpSpPr/>
            <p:nvPr/>
          </p:nvGrpSpPr>
          <p:grpSpPr>
            <a:xfrm>
              <a:off x="3429000" y="990720"/>
              <a:ext cx="5562720" cy="3533760"/>
              <a:chOff x="3429000" y="990720"/>
              <a:chExt cx="5562720" cy="3533760"/>
            </a:xfrm>
          </p:grpSpPr>
          <p:pic>
            <p:nvPicPr>
              <p:cNvPr id="78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3429000" y="990720"/>
                <a:ext cx="5486400" cy="3533760"/>
              </a:xfrm>
              <a:prstGeom prst="rect">
                <a:avLst/>
              </a:prstGeom>
              <a:ln w="19080">
                <a:solidFill>
                  <a:srgbClr val="ff9900"/>
                </a:solidFill>
                <a:miter/>
              </a:ln>
            </p:spPr>
          </p:pic>
          <p:sp>
            <p:nvSpPr>
              <p:cNvPr id="79" name=""/>
              <p:cNvSpPr/>
              <p:nvPr/>
            </p:nvSpPr>
            <p:spPr>
              <a:xfrm>
                <a:off x="4800600" y="1066680"/>
                <a:ext cx="4191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800" spc="-1" strike="noStrike">
                    <a:solidFill>
                      <a:srgbClr val="000000"/>
                    </a:solidFill>
                    <a:latin typeface="Times New Roman"/>
                  </a:rPr>
                  <a:t>ELPI (</a:t>
                </a:r>
                <a:r>
                  <a:rPr b="0" lang="it-IT" sz="1800" spc="-1" strike="noStrike" u="sng">
                    <a:solidFill>
                      <a:srgbClr val="000000"/>
                    </a:solidFill>
                    <a:uFillTx/>
                    <a:latin typeface="Times New Roman"/>
                  </a:rPr>
                  <a:t>E</a:t>
                </a:r>
                <a:r>
                  <a:rPr b="0" lang="it-IT" sz="1800" spc="-1" strike="noStrike">
                    <a:solidFill>
                      <a:srgbClr val="000000"/>
                    </a:solidFill>
                    <a:latin typeface="Times New Roman"/>
                  </a:rPr>
                  <a:t>lectrical </a:t>
                </a:r>
                <a:r>
                  <a:rPr b="0" lang="it-IT" sz="1800" spc="-1" strike="noStrike" u="sng">
                    <a:solidFill>
                      <a:srgbClr val="000000"/>
                    </a:solidFill>
                    <a:uFillTx/>
                    <a:latin typeface="Times New Roman"/>
                  </a:rPr>
                  <a:t>L</a:t>
                </a:r>
                <a:r>
                  <a:rPr b="0" lang="it-IT" sz="1800" spc="-1" strike="noStrike">
                    <a:solidFill>
                      <a:srgbClr val="000000"/>
                    </a:solidFill>
                    <a:latin typeface="Times New Roman"/>
                  </a:rPr>
                  <a:t>ow </a:t>
                </a:r>
                <a:r>
                  <a:rPr b="0" lang="it-IT" sz="1800" spc="-1" strike="noStrike" u="sng">
                    <a:solidFill>
                      <a:srgbClr val="000000"/>
                    </a:solidFill>
                    <a:uFillTx/>
                    <a:latin typeface="Times New Roman"/>
                  </a:rPr>
                  <a:t>P</a:t>
                </a:r>
                <a:r>
                  <a:rPr b="0" lang="it-IT" sz="1800" spc="-1" strike="noStrike">
                    <a:solidFill>
                      <a:srgbClr val="000000"/>
                    </a:solidFill>
                    <a:latin typeface="Times New Roman"/>
                  </a:rPr>
                  <a:t>ressure </a:t>
                </a:r>
                <a:r>
                  <a:rPr b="0" lang="it-IT" sz="1800" spc="-1" strike="noStrike" u="sng">
                    <a:solidFill>
                      <a:srgbClr val="000000"/>
                    </a:solidFill>
                    <a:uFillTx/>
                    <a:latin typeface="Times New Roman"/>
                  </a:rPr>
                  <a:t>I</a:t>
                </a:r>
                <a:r>
                  <a:rPr b="0" lang="it-IT" sz="1800" spc="-1" strike="noStrike">
                    <a:solidFill>
                      <a:srgbClr val="000000"/>
                    </a:solidFill>
                    <a:latin typeface="Times New Roman"/>
                  </a:rPr>
                  <a:t>mpactor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2514600" y="3124080"/>
              <a:ext cx="838080" cy="609840"/>
              <a:chOff x="2514600" y="3124080"/>
              <a:chExt cx="838080" cy="609840"/>
            </a:xfrm>
          </p:grpSpPr>
          <p:sp>
            <p:nvSpPr>
              <p:cNvPr id="81" name=""/>
              <p:cNvSpPr/>
              <p:nvPr/>
            </p:nvSpPr>
            <p:spPr>
              <a:xfrm>
                <a:off x="2514600" y="3124080"/>
                <a:ext cx="838080" cy="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2514600" y="3124080"/>
                <a:ext cx="0" cy="6098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3" name=""/>
          <p:cNvGrpSpPr/>
          <p:nvPr/>
        </p:nvGrpSpPr>
        <p:grpSpPr>
          <a:xfrm>
            <a:off x="4038480" y="3530520"/>
            <a:ext cx="3454560" cy="2489400"/>
            <a:chOff x="4038480" y="3530520"/>
            <a:chExt cx="3454560" cy="2489400"/>
          </a:xfrm>
        </p:grpSpPr>
        <p:sp>
          <p:nvSpPr>
            <p:cNvPr id="84" name=""/>
            <p:cNvSpPr/>
            <p:nvPr/>
          </p:nvSpPr>
          <p:spPr>
            <a:xfrm flipV="1">
              <a:off x="4038480" y="4419360"/>
              <a:ext cx="1295640" cy="68580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5" name="" descr=""/>
            <p:cNvPicPr/>
            <p:nvPr/>
          </p:nvPicPr>
          <p:blipFill>
            <a:blip r:embed="rId3"/>
            <a:stretch/>
          </p:blipFill>
          <p:spPr>
            <a:xfrm>
              <a:off x="5486400" y="3581280"/>
              <a:ext cx="1886040" cy="2438640"/>
            </a:xfrm>
            <a:prstGeom prst="rect">
              <a:avLst/>
            </a:prstGeom>
            <a:ln w="25560">
              <a:solidFill>
                <a:srgbClr val="ff9900"/>
              </a:solidFill>
              <a:miter/>
            </a:ln>
          </p:spPr>
        </p:pic>
        <p:sp>
          <p:nvSpPr>
            <p:cNvPr id="86" name=""/>
            <p:cNvSpPr/>
            <p:nvPr/>
          </p:nvSpPr>
          <p:spPr>
            <a:xfrm>
              <a:off x="5587920" y="3530520"/>
              <a:ext cx="190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ICLONE PM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a6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533520" y="24120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TERMINAZIONE GRAVIMETRICA DEL PM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mg/km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457200" y="609480"/>
            <a:ext cx="7848720" cy="5829480"/>
          </a:xfrm>
          <a:prstGeom prst="rect">
            <a:avLst/>
          </a:prstGeom>
          <a:ln w="0">
            <a:noFill/>
          </a:ln>
        </p:spPr>
      </p:pic>
      <p:grpSp>
        <p:nvGrpSpPr>
          <p:cNvPr id="89" name=""/>
          <p:cNvGrpSpPr/>
          <p:nvPr/>
        </p:nvGrpSpPr>
        <p:grpSpPr>
          <a:xfrm>
            <a:off x="6705720" y="3886200"/>
            <a:ext cx="1828800" cy="2315520"/>
            <a:chOff x="6705720" y="3886200"/>
            <a:chExt cx="1828800" cy="2315520"/>
          </a:xfrm>
        </p:grpSpPr>
        <p:sp>
          <p:nvSpPr>
            <p:cNvPr id="90" name=""/>
            <p:cNvSpPr/>
            <p:nvPr/>
          </p:nvSpPr>
          <p:spPr>
            <a:xfrm>
              <a:off x="6705720" y="3886200"/>
              <a:ext cx="1752480" cy="19810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705720" y="4012200"/>
              <a:ext cx="1828800" cy="218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it-IT" sz="1600" spc="-1" strike="noStrike">
                  <a:solidFill>
                    <a:srgbClr val="ff7c80"/>
                  </a:solidFill>
                  <a:latin typeface="Times New Roman"/>
                </a:rPr>
                <a:t>A = diesel Euro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it-IT" sz="1600" spc="-1" strike="noStrike">
                  <a:solidFill>
                    <a:srgbClr val="ffcc99"/>
                  </a:solidFill>
                  <a:latin typeface="Times New Roman"/>
                </a:rPr>
                <a:t>B = diesel Euro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it-IT" sz="1600" spc="-1" strike="noStrike">
                  <a:solidFill>
                    <a:srgbClr val="009900"/>
                  </a:solidFill>
                  <a:latin typeface="Times New Roman"/>
                </a:rPr>
                <a:t>C = diesel Euro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it-IT" sz="1600" spc="-1" strike="noStrike">
                  <a:solidFill>
                    <a:srgbClr val="3333cc"/>
                  </a:solidFill>
                  <a:latin typeface="Times New Roman"/>
                </a:rPr>
                <a:t>D = diesel Euro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a6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61520" y="990720"/>
            <a:ext cx="151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330720" y="985680"/>
            <a:ext cx="20124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67640" y="1220760"/>
            <a:ext cx="252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0000"/>
                </a:solidFill>
                <a:latin typeface="Arial"/>
              </a:rPr>
              <a:t>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267640" y="1521000"/>
            <a:ext cx="252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0000"/>
                </a:solidFill>
                <a:latin typeface="Arial"/>
              </a:rPr>
              <a:t>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267640" y="1836720"/>
            <a:ext cx="252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267640" y="2128680"/>
            <a:ext cx="252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721480" y="1276200"/>
            <a:ext cx="299880" cy="2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708520" y="1528920"/>
            <a:ext cx="5000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708520" y="1798560"/>
            <a:ext cx="102708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1981080" y="990720"/>
            <a:ext cx="4952880" cy="1155600"/>
            <a:chOff x="1981080" y="990720"/>
            <a:chExt cx="4952880" cy="1155600"/>
          </a:xfrm>
        </p:grpSpPr>
        <p:sp>
          <p:nvSpPr>
            <p:cNvPr id="102" name=""/>
            <p:cNvSpPr/>
            <p:nvPr/>
          </p:nvSpPr>
          <p:spPr>
            <a:xfrm>
              <a:off x="1981080" y="990720"/>
              <a:ext cx="4952880" cy="1155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285640" y="1143000"/>
              <a:ext cx="9144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 u="sng">
                  <a:solidFill>
                    <a:srgbClr val="000000"/>
                  </a:solidFill>
                  <a:uFillTx/>
                  <a:latin typeface="Arial"/>
                </a:rPr>
                <a:t>VEICOL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176080" y="990720"/>
              <a:ext cx="13874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 u="sng">
                  <a:solidFill>
                    <a:srgbClr val="000000"/>
                  </a:solidFill>
                  <a:uFillTx/>
                  <a:latin typeface="Arial"/>
                </a:rPr>
                <a:t>CICLO DI GUID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324520" y="1459080"/>
              <a:ext cx="4654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A  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782080" y="1459080"/>
              <a:ext cx="3254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80"/>
                  </a:solidFill>
                  <a:latin typeface="Arial"/>
                </a:rPr>
                <a:t>B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325240" y="177624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507400" y="1776240"/>
              <a:ext cx="2811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0080"/>
                  </a:solidFill>
                  <a:latin typeface="Arial"/>
                </a:rPr>
                <a:t>  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787120" y="177624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00080"/>
                  </a:solidFill>
                  <a:latin typeface="Arial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243400" y="1874880"/>
              <a:ext cx="156960" cy="144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225760" y="1303200"/>
              <a:ext cx="174600" cy="160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200560" y="1541520"/>
              <a:ext cx="225360" cy="187200"/>
            </a:xfrm>
            <a:custGeom>
              <a:avLst/>
              <a:gdLst/>
              <a:ahLst/>
              <a:rect l="l" t="t" r="r" b="b"/>
              <a:pathLst>
                <a:path w="142" h="118">
                  <a:moveTo>
                    <a:pt x="71" y="0"/>
                  </a:moveTo>
                  <a:lnTo>
                    <a:pt x="0" y="118"/>
                  </a:lnTo>
                  <a:lnTo>
                    <a:pt x="142" y="118"/>
                  </a:lnTo>
                  <a:lnTo>
                    <a:pt x="71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549760" y="1257480"/>
              <a:ext cx="180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561640" y="1550880"/>
              <a:ext cx="439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UD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561280" y="1832040"/>
              <a:ext cx="575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EUD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143000" y="22860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RELAZIONE EMISSIONE IN NUMERO/MAS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304920" y="2362320"/>
            <a:ext cx="8458200" cy="4222800"/>
          </a:xfrm>
          <a:prstGeom prst="rect">
            <a:avLst/>
          </a:prstGeom>
          <a:ln w="0">
            <a:noFill/>
          </a:ln>
        </p:spPr>
      </p:pic>
      <p:grpSp>
        <p:nvGrpSpPr>
          <p:cNvPr id="118" name=""/>
          <p:cNvGrpSpPr/>
          <p:nvPr/>
        </p:nvGrpSpPr>
        <p:grpSpPr>
          <a:xfrm>
            <a:off x="6400800" y="2514600"/>
            <a:ext cx="1905120" cy="2819160"/>
            <a:chOff x="6400800" y="2514600"/>
            <a:chExt cx="1905120" cy="2819160"/>
          </a:xfrm>
        </p:grpSpPr>
        <p:sp>
          <p:nvSpPr>
            <p:cNvPr id="119" name=""/>
            <p:cNvSpPr/>
            <p:nvPr/>
          </p:nvSpPr>
          <p:spPr>
            <a:xfrm>
              <a:off x="6400800" y="2819160"/>
              <a:ext cx="1905120" cy="2514600"/>
            </a:xfrm>
            <a:custGeom>
              <a:avLst/>
              <a:gdLst>
                <a:gd name="textAreaLeft" fmla="*/ 92880 w 1905120"/>
                <a:gd name="textAreaRight" fmla="*/ 1812240 w 1905120"/>
                <a:gd name="textAreaTop" fmla="*/ 92880 h 2514600"/>
                <a:gd name="textAreaBottom" fmla="*/ 2421720 h 2514600"/>
              </a:gdLst>
              <a:ahLst/>
              <a:rect l="textAreaLeft" t="textAreaTop" r="textAreaRight" b="textAreaBottom"/>
              <a:pathLst>
                <a:path w="21600" h="28509">
                  <a:moveTo>
                    <a:pt x="3600" y="0"/>
                  </a:moveTo>
                  <a:arcTo wR="3600" hR="3600" stAng="16200000" swAng="-5400000"/>
                  <a:lnTo>
                    <a:pt x="0" y="24909"/>
                  </a:lnTo>
                  <a:arcTo wR="3600" hR="3600" stAng="10800000" swAng="-5400000"/>
                  <a:lnTo>
                    <a:pt x="18000" y="2850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cap="rnd" w="25560">
              <a:solidFill>
                <a:srgbClr val="ff66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781680" y="2514600"/>
              <a:ext cx="129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Times New Roman"/>
                </a:rPr>
                <a:t>EURO 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4191120" y="4876920"/>
            <a:ext cx="1447560" cy="748800"/>
            <a:chOff x="4191120" y="4876920"/>
            <a:chExt cx="1447560" cy="748800"/>
          </a:xfrm>
        </p:grpSpPr>
        <p:sp>
          <p:nvSpPr>
            <p:cNvPr id="122" name=""/>
            <p:cNvSpPr/>
            <p:nvPr/>
          </p:nvSpPr>
          <p:spPr>
            <a:xfrm>
              <a:off x="4191120" y="5168880"/>
              <a:ext cx="1447560" cy="456840"/>
            </a:xfrm>
            <a:prstGeom prst="roundRect">
              <a:avLst>
                <a:gd name="adj" fmla="val 16667"/>
              </a:avLst>
            </a:prstGeom>
            <a:noFill/>
            <a:ln cap="rnd" w="25560">
              <a:solidFill>
                <a:srgbClr val="000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419360" y="4876920"/>
              <a:ext cx="1142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cc"/>
                  </a:solidFill>
                  <a:latin typeface="Times New Roman"/>
                </a:rPr>
                <a:t>EURO I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2514600" y="4952880"/>
            <a:ext cx="1447920" cy="736560"/>
            <a:chOff x="2514600" y="4952880"/>
            <a:chExt cx="1447920" cy="736560"/>
          </a:xfrm>
        </p:grpSpPr>
        <p:sp>
          <p:nvSpPr>
            <p:cNvPr id="125" name=""/>
            <p:cNvSpPr/>
            <p:nvPr/>
          </p:nvSpPr>
          <p:spPr>
            <a:xfrm>
              <a:off x="2514600" y="5232240"/>
              <a:ext cx="1447920" cy="457200"/>
            </a:xfrm>
            <a:prstGeom prst="roundRect">
              <a:avLst>
                <a:gd name="adj" fmla="val 16667"/>
              </a:avLst>
            </a:prstGeom>
            <a:noFill/>
            <a:ln cap="rnd" w="25560">
              <a:solidFill>
                <a:srgbClr val="008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629080" y="4952880"/>
              <a:ext cx="114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6600"/>
                  </a:solidFill>
                  <a:latin typeface="Times New Roman"/>
                </a:rPr>
                <a:t>EURO II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8T10:59:31Z</dcterms:created>
  <dc:creator>lab motori</dc:creator>
  <dc:description/>
  <dc:language>en-US</dc:language>
  <cp:lastModifiedBy>ENEA</cp:lastModifiedBy>
  <cp:lastPrinted>2003-02-27T16:31:54Z</cp:lastPrinted>
  <dcterms:modified xsi:type="dcterms:W3CDTF">2003-04-10T14:07:04Z</dcterms:modified>
  <cp:revision>77</cp:revision>
  <dc:subject/>
  <dc:title>Nessun titolo diapositiva</dc:title>
</cp:coreProperties>
</file>